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2.wmf" ContentType="image/x-wmf"/>
  <Override PartName="/ppt/media/image32.wmf" ContentType="image/x-wmf"/>
  <Override PartName="/ppt/media/type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36.png" ContentType="image/png"/>
  <Override PartName="/ppt/media/image48.jpeg" ContentType="image/jpeg"/>
  <Override PartName="/ppt/media/image41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6.wmf" ContentType="image/x-wmf"/>
  <Override PartName="/ppt/media/image43.wmf" ContentType="image/x-wmf"/>
  <Override PartName="/ppt/media/image44.wmf" ContentType="image/x-wmf"/>
  <Override PartName="/ppt/media/image49.gif" ContentType="image/gif"/>
  <Override PartName="/ppt/media/image45.wmf" ContentType="image/x-wmf"/>
  <Override PartName="/ppt/media/image10.wmf" ContentType="image/x-wmf"/>
  <Override PartName="/ppt/media/image47.png" ContentType="image/png"/>
  <Override PartName="/ppt/media/image7.wmf" ContentType="image/x-wmf"/>
  <Override PartName="/ppt/media/image37.png" ContentType="image/png"/>
  <Override PartName="/ppt/media/image40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50.png" ContentType="image/png"/>
  <Override PartName="/ppt/media/image11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B79-FE9A-4C5A-9AD1-4964DC97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25C-A4A9-44B2-B16B-10A1FC91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CB8-A436-4D27-ABDD-1C19E923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81C-B81C-45FB-B0D1-66C50F01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249-0791-4B0C-BCA6-0C826EA6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2EF-D8E6-4285-B3AD-A849AEC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0716-C3D7-4DF9-A501-D2A8B8BA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95A6-65DC-4257-AC11-41898CA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25F8-5BB5-4A88-8F18-A1BD0487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A9E-0E58-43F5-9AE8-940A0302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3F96-A8A6-4583-99A1-5B4D69F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F67-E0A2-4AB4-81DE-D0DEBC88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2F2A-6DDB-4CEB-9552-0C8ABAC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79AF-2BEA-4E1E-9C14-1FBF693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4D5C-9E9D-4B35-914E-780D26F1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3A0F-AB6F-4581-B315-62567E46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023-CA32-46BB-839A-B6BBE66F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586A-CFC1-4F61-BE9B-E6EDA11F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6BE2-237C-46A3-8C08-2E122AEB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F839-3418-4472-B731-82E475D8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C13E-A9A2-4AF0-86AA-403E5BBD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0352-3BD5-41F4-B143-A32963D0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E9D-2863-4C8A-9635-676A9C5C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5C6D-E598-4FA5-B426-12F5A150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4AFF-0167-4294-AFDC-0D5B007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1927-42BA-49E3-8E97-F813EBD4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CBEF-17D2-4E34-97AC-F779C3D5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445E-A7A4-477D-AA8F-E94FD06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E20B-33B7-4BA2-87C3-F3DCA5B9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467C-79EC-4A1D-920F-EF0ABAD6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2BF-CD36-4C39-B6E1-F9400F4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234-E854-4DD1-8234-B4D31AE4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665-6B64-4F59-BEAC-6D71345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E7A-8C5C-4A32-A5B9-18720D6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DA1-2021-4FC6-9D13-516DDC2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368-6335-4A90-94E4-16D0D40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A26-3F84-407A-90A8-6C508E0CA1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5FB-1566-4ED5-850D-F625A32779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A437-2FC2-4195-9B7D-D749F228E8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5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5800" y="16002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22.1.3.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二次函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y=a(x-h)</a:t>
            </a:r>
            <a:r>
              <a:rPr b="0" lang="zh-CN" sz="4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+k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及其性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9"/>
          <p:cNvSpPr/>
          <p:nvPr/>
        </p:nvSpPr>
        <p:spPr>
          <a:xfrm>
            <a:off x="1388880" y="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平移的规律总结：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矩形 10"/>
          <p:cNvSpPr/>
          <p:nvPr/>
        </p:nvSpPr>
        <p:spPr>
          <a:xfrm>
            <a:off x="623160" y="220968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矩形 11"/>
          <p:cNvSpPr/>
          <p:nvPr/>
        </p:nvSpPr>
        <p:spPr>
          <a:xfrm>
            <a:off x="6560280" y="228600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(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矩形 12"/>
          <p:cNvSpPr/>
          <p:nvPr/>
        </p:nvSpPr>
        <p:spPr>
          <a:xfrm>
            <a:off x="6330960" y="4267080"/>
            <a:ext cx="24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=a(x-h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k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1981080" y="45720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2057400" y="25909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矩形 15"/>
          <p:cNvSpPr/>
          <p:nvPr/>
        </p:nvSpPr>
        <p:spPr>
          <a:xfrm>
            <a:off x="2384640" y="1905120"/>
            <a:ext cx="35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矩形 16"/>
          <p:cNvSpPr/>
          <p:nvPr/>
        </p:nvSpPr>
        <p:spPr>
          <a:xfrm>
            <a:off x="2383560" y="274320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 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Object 10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457200" cy="703440"/>
          </a:xfrm>
          <a:prstGeom prst="rect">
            <a:avLst/>
          </a:prstGeom>
          <a:ln w="0">
            <a:noFill/>
          </a:ln>
        </p:spPr>
      </p:pic>
      <p:sp>
        <p:nvSpPr>
          <p:cNvPr id="400" name="矩形 18"/>
          <p:cNvSpPr/>
          <p:nvPr/>
        </p:nvSpPr>
        <p:spPr>
          <a:xfrm>
            <a:off x="2394360" y="3962520"/>
            <a:ext cx="34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上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  <a:ea typeface="宋体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矩形 19"/>
          <p:cNvSpPr/>
          <p:nvPr/>
        </p:nvSpPr>
        <p:spPr>
          <a:xfrm>
            <a:off x="1447920" y="4724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&lt;0</a:t>
            </a: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时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下</a:t>
            </a:r>
            <a:r>
              <a:rPr b="1" lang="zh-CN" sz="3200" spc="-1" strike="noStrike">
                <a:solidFill>
                  <a:srgbClr val="18020f"/>
                </a:solidFill>
                <a:latin typeface="Times New Roman"/>
                <a:ea typeface="宋体"/>
              </a:rPr>
              <a:t>平移    个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Object 13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3873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34"/>
          <p:cNvGrpSpPr/>
          <p:nvPr/>
        </p:nvGrpSpPr>
        <p:grpSpPr>
          <a:xfrm>
            <a:off x="0" y="-73080"/>
            <a:ext cx="9144000" cy="7616520"/>
            <a:chOff x="0" y="-73080"/>
            <a:chExt cx="9144000" cy="7616520"/>
          </a:xfrm>
        </p:grpSpPr>
        <p:grpSp>
          <p:nvGrpSpPr>
            <p:cNvPr id="404" name="Group 35"/>
            <p:cNvGrpSpPr/>
            <p:nvPr/>
          </p:nvGrpSpPr>
          <p:grpSpPr>
            <a:xfrm>
              <a:off x="0" y="-73080"/>
              <a:ext cx="9144000" cy="7616520"/>
              <a:chOff x="0" y="-73080"/>
              <a:chExt cx="9144000" cy="7616520"/>
            </a:xfrm>
          </p:grpSpPr>
          <p:pic>
            <p:nvPicPr>
              <p:cNvPr id="405" name="Picture 36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0" y="-73080"/>
                <a:ext cx="4419720" cy="44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37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267080" y="-73080"/>
                <a:ext cx="4876920" cy="44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38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0" y="4206240"/>
                <a:ext cx="4419720" cy="333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39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267080" y="4206240"/>
                <a:ext cx="4876920" cy="333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Line 40"/>
              <p:cNvSpPr/>
              <p:nvPr/>
            </p:nvSpPr>
            <p:spPr>
              <a:xfrm>
                <a:off x="0" y="4268160"/>
                <a:ext cx="914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1"/>
              <p:cNvSpPr/>
              <p:nvPr/>
            </p:nvSpPr>
            <p:spPr>
              <a:xfrm flipV="1">
                <a:off x="4343400" y="78480"/>
                <a:ext cx="0" cy="685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Text Box 42"/>
            <p:cNvSpPr/>
            <p:nvPr/>
          </p:nvSpPr>
          <p:spPr>
            <a:xfrm>
              <a:off x="3887640" y="419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43"/>
            <p:cNvSpPr/>
            <p:nvPr/>
          </p:nvSpPr>
          <p:spPr>
            <a:xfrm>
              <a:off x="8687880" y="373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44"/>
            <p:cNvSpPr/>
            <p:nvPr/>
          </p:nvSpPr>
          <p:spPr>
            <a:xfrm>
              <a:off x="4497120" y="-73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45"/>
            <p:cNvSpPr/>
            <p:nvPr/>
          </p:nvSpPr>
          <p:spPr>
            <a:xfrm>
              <a:off x="470952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46"/>
            <p:cNvSpPr/>
            <p:nvPr/>
          </p:nvSpPr>
          <p:spPr>
            <a:xfrm>
              <a:off x="523044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47"/>
            <p:cNvSpPr/>
            <p:nvPr/>
          </p:nvSpPr>
          <p:spPr>
            <a:xfrm>
              <a:off x="576360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48"/>
            <p:cNvSpPr/>
            <p:nvPr/>
          </p:nvSpPr>
          <p:spPr>
            <a:xfrm>
              <a:off x="629712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9"/>
            <p:cNvSpPr/>
            <p:nvPr/>
          </p:nvSpPr>
          <p:spPr>
            <a:xfrm>
              <a:off x="6830640" y="4225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50"/>
            <p:cNvSpPr/>
            <p:nvPr/>
          </p:nvSpPr>
          <p:spPr>
            <a:xfrm>
              <a:off x="3947760" y="3509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51"/>
            <p:cNvSpPr/>
            <p:nvPr/>
          </p:nvSpPr>
          <p:spPr>
            <a:xfrm>
              <a:off x="3963600" y="2930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52"/>
            <p:cNvSpPr/>
            <p:nvPr/>
          </p:nvSpPr>
          <p:spPr>
            <a:xfrm>
              <a:off x="3963600" y="239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3"/>
            <p:cNvSpPr/>
            <p:nvPr/>
          </p:nvSpPr>
          <p:spPr>
            <a:xfrm>
              <a:off x="3963600" y="1864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54"/>
            <p:cNvSpPr/>
            <p:nvPr/>
          </p:nvSpPr>
          <p:spPr>
            <a:xfrm>
              <a:off x="3963600" y="133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55"/>
            <p:cNvSpPr/>
            <p:nvPr/>
          </p:nvSpPr>
          <p:spPr>
            <a:xfrm>
              <a:off x="129528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56"/>
            <p:cNvSpPr/>
            <p:nvPr/>
          </p:nvSpPr>
          <p:spPr>
            <a:xfrm>
              <a:off x="184932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57"/>
            <p:cNvSpPr/>
            <p:nvPr/>
          </p:nvSpPr>
          <p:spPr>
            <a:xfrm>
              <a:off x="238284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58"/>
            <p:cNvSpPr/>
            <p:nvPr/>
          </p:nvSpPr>
          <p:spPr>
            <a:xfrm>
              <a:off x="291636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59"/>
            <p:cNvSpPr/>
            <p:nvPr/>
          </p:nvSpPr>
          <p:spPr>
            <a:xfrm>
              <a:off x="3449520" y="42220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60"/>
            <p:cNvSpPr/>
            <p:nvPr/>
          </p:nvSpPr>
          <p:spPr>
            <a:xfrm>
              <a:off x="3754440" y="665964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61"/>
            <p:cNvSpPr/>
            <p:nvPr/>
          </p:nvSpPr>
          <p:spPr>
            <a:xfrm>
              <a:off x="3754440" y="612648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62"/>
            <p:cNvSpPr/>
            <p:nvPr/>
          </p:nvSpPr>
          <p:spPr>
            <a:xfrm>
              <a:off x="3754440" y="559332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63"/>
            <p:cNvSpPr/>
            <p:nvPr/>
          </p:nvSpPr>
          <p:spPr>
            <a:xfrm>
              <a:off x="3754440" y="505980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64"/>
            <p:cNvSpPr/>
            <p:nvPr/>
          </p:nvSpPr>
          <p:spPr>
            <a:xfrm>
              <a:off x="3754440" y="4527000"/>
              <a:ext cx="8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Text Box 65"/>
          <p:cNvSpPr/>
          <p:nvPr/>
        </p:nvSpPr>
        <p:spPr>
          <a:xfrm>
            <a:off x="5334120" y="0"/>
            <a:ext cx="38098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观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图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Object 66" descr=""/>
          <p:cNvPicPr/>
          <p:nvPr/>
        </p:nvPicPr>
        <p:blipFill>
          <a:blip r:embed="rId5"/>
          <a:stretch/>
        </p:blipFill>
        <p:spPr>
          <a:xfrm>
            <a:off x="6553080" y="-301680"/>
            <a:ext cx="1371600" cy="986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7" descr=""/>
          <p:cNvPicPr/>
          <p:nvPr/>
        </p:nvPicPr>
        <p:blipFill>
          <a:blip r:embed="rId6"/>
          <a:stretch/>
        </p:blipFill>
        <p:spPr>
          <a:xfrm>
            <a:off x="5638680" y="457200"/>
            <a:ext cx="2679840" cy="98892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68" descr=""/>
          <p:cNvPicPr/>
          <p:nvPr/>
        </p:nvPicPr>
        <p:blipFill>
          <a:blip r:embed="rId7"/>
          <a:stretch/>
        </p:blipFill>
        <p:spPr>
          <a:xfrm>
            <a:off x="5715000" y="1143000"/>
            <a:ext cx="2647800" cy="988920"/>
          </a:xfrm>
          <a:prstGeom prst="rect">
            <a:avLst/>
          </a:prstGeom>
          <a:ln w="0">
            <a:noFill/>
          </a:ln>
        </p:spPr>
      </p:pic>
      <p:sp>
        <p:nvSpPr>
          <p:cNvPr id="438" name="Freeform 69"/>
          <p:cNvSpPr/>
          <p:nvPr/>
        </p:nvSpPr>
        <p:spPr>
          <a:xfrm>
            <a:off x="2438280" y="990720"/>
            <a:ext cx="3810240" cy="3276360"/>
          </a:xfrm>
          <a:custGeom>
            <a:avLst/>
            <a:gdLst/>
            <a:ahLst/>
            <a:rect l="l" t="t" r="r" b="b"/>
            <a:pathLst>
              <a:path w="1543" h="2064">
                <a:moveTo>
                  <a:pt x="0" y="0"/>
                </a:moveTo>
                <a:lnTo>
                  <a:pt x="6" y="36"/>
                </a:lnTo>
                <a:lnTo>
                  <a:pt x="12" y="72"/>
                </a:lnTo>
                <a:lnTo>
                  <a:pt x="24" y="108"/>
                </a:lnTo>
                <a:lnTo>
                  <a:pt x="30" y="144"/>
                </a:lnTo>
                <a:lnTo>
                  <a:pt x="36" y="180"/>
                </a:lnTo>
                <a:lnTo>
                  <a:pt x="42" y="216"/>
                </a:lnTo>
                <a:lnTo>
                  <a:pt x="48" y="246"/>
                </a:lnTo>
                <a:lnTo>
                  <a:pt x="54" y="282"/>
                </a:lnTo>
                <a:lnTo>
                  <a:pt x="60" y="318"/>
                </a:lnTo>
                <a:lnTo>
                  <a:pt x="72" y="348"/>
                </a:lnTo>
                <a:lnTo>
                  <a:pt x="78" y="384"/>
                </a:lnTo>
                <a:lnTo>
                  <a:pt x="84" y="414"/>
                </a:lnTo>
                <a:lnTo>
                  <a:pt x="90" y="450"/>
                </a:lnTo>
                <a:lnTo>
                  <a:pt x="96" y="480"/>
                </a:lnTo>
                <a:lnTo>
                  <a:pt x="102" y="510"/>
                </a:lnTo>
                <a:lnTo>
                  <a:pt x="108" y="546"/>
                </a:lnTo>
                <a:lnTo>
                  <a:pt x="120" y="576"/>
                </a:lnTo>
                <a:lnTo>
                  <a:pt x="126" y="606"/>
                </a:lnTo>
                <a:lnTo>
                  <a:pt x="132" y="636"/>
                </a:lnTo>
                <a:lnTo>
                  <a:pt x="138" y="666"/>
                </a:lnTo>
                <a:lnTo>
                  <a:pt x="144" y="696"/>
                </a:lnTo>
                <a:lnTo>
                  <a:pt x="150" y="726"/>
                </a:lnTo>
                <a:lnTo>
                  <a:pt x="156" y="756"/>
                </a:lnTo>
                <a:lnTo>
                  <a:pt x="168" y="786"/>
                </a:lnTo>
                <a:lnTo>
                  <a:pt x="174" y="816"/>
                </a:lnTo>
                <a:lnTo>
                  <a:pt x="180" y="840"/>
                </a:lnTo>
                <a:lnTo>
                  <a:pt x="186" y="870"/>
                </a:lnTo>
                <a:lnTo>
                  <a:pt x="192" y="900"/>
                </a:lnTo>
                <a:lnTo>
                  <a:pt x="198" y="924"/>
                </a:lnTo>
                <a:lnTo>
                  <a:pt x="204" y="954"/>
                </a:lnTo>
                <a:lnTo>
                  <a:pt x="216" y="978"/>
                </a:lnTo>
                <a:lnTo>
                  <a:pt x="222" y="1002"/>
                </a:lnTo>
                <a:lnTo>
                  <a:pt x="228" y="1032"/>
                </a:lnTo>
                <a:lnTo>
                  <a:pt x="234" y="1056"/>
                </a:lnTo>
                <a:lnTo>
                  <a:pt x="240" y="1080"/>
                </a:lnTo>
                <a:lnTo>
                  <a:pt x="246" y="1104"/>
                </a:lnTo>
                <a:lnTo>
                  <a:pt x="252" y="1134"/>
                </a:lnTo>
                <a:lnTo>
                  <a:pt x="264" y="1158"/>
                </a:lnTo>
                <a:lnTo>
                  <a:pt x="270" y="1182"/>
                </a:lnTo>
                <a:lnTo>
                  <a:pt x="276" y="1206"/>
                </a:lnTo>
                <a:lnTo>
                  <a:pt x="282" y="1230"/>
                </a:lnTo>
                <a:lnTo>
                  <a:pt x="288" y="1248"/>
                </a:lnTo>
                <a:lnTo>
                  <a:pt x="294" y="1272"/>
                </a:lnTo>
                <a:lnTo>
                  <a:pt x="300" y="1296"/>
                </a:lnTo>
                <a:lnTo>
                  <a:pt x="312" y="1320"/>
                </a:lnTo>
                <a:lnTo>
                  <a:pt x="318" y="1338"/>
                </a:lnTo>
                <a:lnTo>
                  <a:pt x="324" y="1362"/>
                </a:lnTo>
                <a:lnTo>
                  <a:pt x="330" y="1380"/>
                </a:lnTo>
                <a:lnTo>
                  <a:pt x="336" y="1404"/>
                </a:lnTo>
                <a:lnTo>
                  <a:pt x="342" y="1422"/>
                </a:lnTo>
                <a:lnTo>
                  <a:pt x="348" y="1446"/>
                </a:lnTo>
                <a:lnTo>
                  <a:pt x="360" y="1464"/>
                </a:lnTo>
                <a:lnTo>
                  <a:pt x="366" y="1482"/>
                </a:lnTo>
                <a:lnTo>
                  <a:pt x="372" y="1500"/>
                </a:lnTo>
                <a:lnTo>
                  <a:pt x="378" y="1524"/>
                </a:lnTo>
                <a:lnTo>
                  <a:pt x="384" y="1542"/>
                </a:lnTo>
                <a:lnTo>
                  <a:pt x="390" y="1560"/>
                </a:lnTo>
                <a:lnTo>
                  <a:pt x="396" y="1578"/>
                </a:lnTo>
                <a:lnTo>
                  <a:pt x="408" y="1596"/>
                </a:lnTo>
                <a:lnTo>
                  <a:pt x="414" y="1614"/>
                </a:lnTo>
                <a:lnTo>
                  <a:pt x="420" y="1626"/>
                </a:lnTo>
                <a:lnTo>
                  <a:pt x="426" y="1644"/>
                </a:lnTo>
                <a:lnTo>
                  <a:pt x="432" y="1662"/>
                </a:lnTo>
                <a:lnTo>
                  <a:pt x="438" y="1680"/>
                </a:lnTo>
                <a:lnTo>
                  <a:pt x="444" y="1692"/>
                </a:lnTo>
                <a:lnTo>
                  <a:pt x="456" y="1710"/>
                </a:lnTo>
                <a:lnTo>
                  <a:pt x="462" y="1722"/>
                </a:lnTo>
                <a:lnTo>
                  <a:pt x="468" y="1740"/>
                </a:lnTo>
                <a:lnTo>
                  <a:pt x="474" y="1752"/>
                </a:lnTo>
                <a:lnTo>
                  <a:pt x="480" y="1764"/>
                </a:lnTo>
                <a:lnTo>
                  <a:pt x="486" y="1782"/>
                </a:lnTo>
                <a:lnTo>
                  <a:pt x="492" y="1794"/>
                </a:lnTo>
                <a:lnTo>
                  <a:pt x="504" y="1806"/>
                </a:lnTo>
                <a:lnTo>
                  <a:pt x="510" y="1818"/>
                </a:lnTo>
                <a:lnTo>
                  <a:pt x="516" y="1830"/>
                </a:lnTo>
                <a:lnTo>
                  <a:pt x="522" y="1842"/>
                </a:lnTo>
                <a:lnTo>
                  <a:pt x="528" y="1854"/>
                </a:lnTo>
                <a:lnTo>
                  <a:pt x="534" y="1866"/>
                </a:lnTo>
                <a:lnTo>
                  <a:pt x="540" y="1878"/>
                </a:lnTo>
                <a:lnTo>
                  <a:pt x="552" y="1890"/>
                </a:lnTo>
                <a:lnTo>
                  <a:pt x="558" y="1902"/>
                </a:lnTo>
                <a:lnTo>
                  <a:pt x="564" y="1908"/>
                </a:lnTo>
                <a:lnTo>
                  <a:pt x="570" y="1920"/>
                </a:lnTo>
                <a:lnTo>
                  <a:pt x="576" y="1932"/>
                </a:lnTo>
                <a:lnTo>
                  <a:pt x="582" y="1938"/>
                </a:lnTo>
                <a:lnTo>
                  <a:pt x="588" y="1950"/>
                </a:lnTo>
                <a:lnTo>
                  <a:pt x="600" y="1956"/>
                </a:lnTo>
                <a:lnTo>
                  <a:pt x="606" y="1962"/>
                </a:lnTo>
                <a:lnTo>
                  <a:pt x="612" y="1974"/>
                </a:lnTo>
                <a:lnTo>
                  <a:pt x="618" y="1980"/>
                </a:lnTo>
                <a:lnTo>
                  <a:pt x="624" y="1986"/>
                </a:lnTo>
                <a:lnTo>
                  <a:pt x="630" y="1992"/>
                </a:lnTo>
                <a:lnTo>
                  <a:pt x="636" y="1998"/>
                </a:lnTo>
                <a:lnTo>
                  <a:pt x="648" y="2004"/>
                </a:lnTo>
                <a:lnTo>
                  <a:pt x="654" y="2010"/>
                </a:lnTo>
                <a:lnTo>
                  <a:pt x="660" y="2016"/>
                </a:lnTo>
                <a:lnTo>
                  <a:pt x="666" y="2022"/>
                </a:lnTo>
                <a:lnTo>
                  <a:pt x="672" y="2028"/>
                </a:lnTo>
                <a:lnTo>
                  <a:pt x="678" y="2034"/>
                </a:lnTo>
                <a:lnTo>
                  <a:pt x="684" y="2040"/>
                </a:lnTo>
                <a:lnTo>
                  <a:pt x="690" y="2040"/>
                </a:lnTo>
                <a:lnTo>
                  <a:pt x="702" y="2046"/>
                </a:lnTo>
                <a:lnTo>
                  <a:pt x="708" y="2046"/>
                </a:lnTo>
                <a:lnTo>
                  <a:pt x="714" y="2052"/>
                </a:lnTo>
                <a:lnTo>
                  <a:pt x="720" y="2052"/>
                </a:lnTo>
                <a:lnTo>
                  <a:pt x="726" y="2058"/>
                </a:lnTo>
                <a:lnTo>
                  <a:pt x="732" y="2058"/>
                </a:lnTo>
                <a:lnTo>
                  <a:pt x="738" y="2058"/>
                </a:lnTo>
                <a:lnTo>
                  <a:pt x="750" y="2064"/>
                </a:lnTo>
                <a:lnTo>
                  <a:pt x="756" y="2064"/>
                </a:lnTo>
                <a:lnTo>
                  <a:pt x="762" y="2064"/>
                </a:lnTo>
                <a:lnTo>
                  <a:pt x="768" y="2064"/>
                </a:lnTo>
                <a:lnTo>
                  <a:pt x="774" y="2064"/>
                </a:lnTo>
                <a:lnTo>
                  <a:pt x="781" y="2064"/>
                </a:lnTo>
                <a:lnTo>
                  <a:pt x="787" y="2064"/>
                </a:lnTo>
                <a:lnTo>
                  <a:pt x="799" y="2064"/>
                </a:lnTo>
                <a:lnTo>
                  <a:pt x="805" y="2064"/>
                </a:lnTo>
                <a:lnTo>
                  <a:pt x="811" y="2058"/>
                </a:lnTo>
                <a:lnTo>
                  <a:pt x="817" y="2058"/>
                </a:lnTo>
                <a:lnTo>
                  <a:pt x="823" y="2058"/>
                </a:lnTo>
                <a:lnTo>
                  <a:pt x="829" y="2052"/>
                </a:lnTo>
                <a:lnTo>
                  <a:pt x="835" y="2052"/>
                </a:lnTo>
                <a:lnTo>
                  <a:pt x="847" y="2046"/>
                </a:lnTo>
                <a:lnTo>
                  <a:pt x="853" y="2046"/>
                </a:lnTo>
                <a:lnTo>
                  <a:pt x="859" y="2040"/>
                </a:lnTo>
                <a:lnTo>
                  <a:pt x="865" y="2034"/>
                </a:lnTo>
                <a:lnTo>
                  <a:pt x="871" y="2034"/>
                </a:lnTo>
                <a:lnTo>
                  <a:pt x="877" y="2028"/>
                </a:lnTo>
                <a:lnTo>
                  <a:pt x="883" y="2022"/>
                </a:lnTo>
                <a:lnTo>
                  <a:pt x="895" y="2016"/>
                </a:lnTo>
                <a:lnTo>
                  <a:pt x="901" y="2010"/>
                </a:lnTo>
                <a:lnTo>
                  <a:pt x="907" y="2004"/>
                </a:lnTo>
                <a:lnTo>
                  <a:pt x="913" y="1998"/>
                </a:lnTo>
                <a:lnTo>
                  <a:pt x="919" y="1992"/>
                </a:lnTo>
                <a:lnTo>
                  <a:pt x="925" y="1986"/>
                </a:lnTo>
                <a:lnTo>
                  <a:pt x="931" y="1974"/>
                </a:lnTo>
                <a:lnTo>
                  <a:pt x="943" y="1968"/>
                </a:lnTo>
                <a:lnTo>
                  <a:pt x="949" y="1962"/>
                </a:lnTo>
                <a:lnTo>
                  <a:pt x="955" y="1950"/>
                </a:lnTo>
                <a:lnTo>
                  <a:pt x="961" y="1944"/>
                </a:lnTo>
                <a:lnTo>
                  <a:pt x="967" y="1938"/>
                </a:lnTo>
                <a:lnTo>
                  <a:pt x="973" y="1926"/>
                </a:lnTo>
                <a:lnTo>
                  <a:pt x="979" y="1914"/>
                </a:lnTo>
                <a:lnTo>
                  <a:pt x="991" y="1908"/>
                </a:lnTo>
                <a:lnTo>
                  <a:pt x="997" y="1896"/>
                </a:lnTo>
                <a:lnTo>
                  <a:pt x="1003" y="1884"/>
                </a:lnTo>
                <a:lnTo>
                  <a:pt x="1009" y="1872"/>
                </a:lnTo>
                <a:lnTo>
                  <a:pt x="1015" y="1866"/>
                </a:lnTo>
                <a:lnTo>
                  <a:pt x="1021" y="1854"/>
                </a:lnTo>
                <a:lnTo>
                  <a:pt x="1027" y="1842"/>
                </a:lnTo>
                <a:lnTo>
                  <a:pt x="1039" y="1830"/>
                </a:lnTo>
                <a:lnTo>
                  <a:pt x="1045" y="1818"/>
                </a:lnTo>
                <a:lnTo>
                  <a:pt x="1051" y="1800"/>
                </a:lnTo>
                <a:lnTo>
                  <a:pt x="1057" y="1788"/>
                </a:lnTo>
                <a:lnTo>
                  <a:pt x="1063" y="1776"/>
                </a:lnTo>
                <a:lnTo>
                  <a:pt x="1069" y="1764"/>
                </a:lnTo>
                <a:lnTo>
                  <a:pt x="1075" y="1746"/>
                </a:lnTo>
                <a:lnTo>
                  <a:pt x="1087" y="1734"/>
                </a:lnTo>
                <a:lnTo>
                  <a:pt x="1093" y="1716"/>
                </a:lnTo>
                <a:lnTo>
                  <a:pt x="1099" y="1704"/>
                </a:lnTo>
                <a:lnTo>
                  <a:pt x="1105" y="1686"/>
                </a:lnTo>
                <a:lnTo>
                  <a:pt x="1111" y="1674"/>
                </a:lnTo>
                <a:lnTo>
                  <a:pt x="1117" y="1656"/>
                </a:lnTo>
                <a:lnTo>
                  <a:pt x="1123" y="1638"/>
                </a:lnTo>
                <a:lnTo>
                  <a:pt x="1135" y="1620"/>
                </a:lnTo>
                <a:lnTo>
                  <a:pt x="1141" y="1608"/>
                </a:lnTo>
                <a:lnTo>
                  <a:pt x="1147" y="1590"/>
                </a:lnTo>
                <a:lnTo>
                  <a:pt x="1153" y="1572"/>
                </a:lnTo>
                <a:lnTo>
                  <a:pt x="1159" y="1554"/>
                </a:lnTo>
                <a:lnTo>
                  <a:pt x="1165" y="1536"/>
                </a:lnTo>
                <a:lnTo>
                  <a:pt x="1171" y="1518"/>
                </a:lnTo>
                <a:lnTo>
                  <a:pt x="1183" y="1494"/>
                </a:lnTo>
                <a:lnTo>
                  <a:pt x="1189" y="1476"/>
                </a:lnTo>
                <a:lnTo>
                  <a:pt x="1195" y="1458"/>
                </a:lnTo>
                <a:lnTo>
                  <a:pt x="1201" y="1440"/>
                </a:lnTo>
                <a:lnTo>
                  <a:pt x="1207" y="1416"/>
                </a:lnTo>
                <a:lnTo>
                  <a:pt x="1213" y="1398"/>
                </a:lnTo>
                <a:lnTo>
                  <a:pt x="1219" y="1374"/>
                </a:lnTo>
                <a:lnTo>
                  <a:pt x="1231" y="1356"/>
                </a:lnTo>
                <a:lnTo>
                  <a:pt x="1237" y="1332"/>
                </a:lnTo>
                <a:lnTo>
                  <a:pt x="1243" y="1308"/>
                </a:lnTo>
                <a:lnTo>
                  <a:pt x="1249" y="1290"/>
                </a:lnTo>
                <a:lnTo>
                  <a:pt x="1255" y="1266"/>
                </a:lnTo>
                <a:lnTo>
                  <a:pt x="1261" y="1242"/>
                </a:lnTo>
                <a:lnTo>
                  <a:pt x="1267" y="1218"/>
                </a:lnTo>
                <a:lnTo>
                  <a:pt x="1279" y="1194"/>
                </a:lnTo>
                <a:lnTo>
                  <a:pt x="1285" y="1170"/>
                </a:lnTo>
                <a:lnTo>
                  <a:pt x="1291" y="1146"/>
                </a:lnTo>
                <a:lnTo>
                  <a:pt x="1297" y="1122"/>
                </a:lnTo>
                <a:lnTo>
                  <a:pt x="1303" y="1098"/>
                </a:lnTo>
                <a:lnTo>
                  <a:pt x="1309" y="1074"/>
                </a:lnTo>
                <a:lnTo>
                  <a:pt x="1315" y="1050"/>
                </a:lnTo>
                <a:lnTo>
                  <a:pt x="1327" y="1020"/>
                </a:lnTo>
                <a:lnTo>
                  <a:pt x="1333" y="996"/>
                </a:lnTo>
                <a:lnTo>
                  <a:pt x="1339" y="966"/>
                </a:lnTo>
                <a:lnTo>
                  <a:pt x="1345" y="942"/>
                </a:lnTo>
                <a:lnTo>
                  <a:pt x="1351" y="912"/>
                </a:lnTo>
                <a:lnTo>
                  <a:pt x="1357" y="888"/>
                </a:lnTo>
                <a:lnTo>
                  <a:pt x="1363" y="858"/>
                </a:lnTo>
                <a:lnTo>
                  <a:pt x="1375" y="834"/>
                </a:lnTo>
                <a:lnTo>
                  <a:pt x="1381" y="804"/>
                </a:lnTo>
                <a:lnTo>
                  <a:pt x="1387" y="774"/>
                </a:lnTo>
                <a:lnTo>
                  <a:pt x="1393" y="744"/>
                </a:lnTo>
                <a:lnTo>
                  <a:pt x="1399" y="714"/>
                </a:lnTo>
                <a:lnTo>
                  <a:pt x="1405" y="684"/>
                </a:lnTo>
                <a:lnTo>
                  <a:pt x="1411" y="654"/>
                </a:lnTo>
                <a:lnTo>
                  <a:pt x="1423" y="624"/>
                </a:lnTo>
                <a:lnTo>
                  <a:pt x="1429" y="594"/>
                </a:lnTo>
                <a:lnTo>
                  <a:pt x="1435" y="564"/>
                </a:lnTo>
                <a:lnTo>
                  <a:pt x="1441" y="534"/>
                </a:lnTo>
                <a:lnTo>
                  <a:pt x="1447" y="504"/>
                </a:lnTo>
                <a:lnTo>
                  <a:pt x="1453" y="468"/>
                </a:lnTo>
                <a:lnTo>
                  <a:pt x="1459" y="438"/>
                </a:lnTo>
                <a:lnTo>
                  <a:pt x="1471" y="402"/>
                </a:lnTo>
                <a:lnTo>
                  <a:pt x="1477" y="372"/>
                </a:lnTo>
                <a:lnTo>
                  <a:pt x="1483" y="336"/>
                </a:lnTo>
                <a:lnTo>
                  <a:pt x="1489" y="306"/>
                </a:lnTo>
                <a:lnTo>
                  <a:pt x="1495" y="270"/>
                </a:lnTo>
                <a:lnTo>
                  <a:pt x="1501" y="234"/>
                </a:lnTo>
                <a:lnTo>
                  <a:pt x="1507" y="204"/>
                </a:lnTo>
                <a:lnTo>
                  <a:pt x="1519" y="168"/>
                </a:lnTo>
                <a:lnTo>
                  <a:pt x="1525" y="132"/>
                </a:lnTo>
                <a:lnTo>
                  <a:pt x="1531" y="96"/>
                </a:lnTo>
                <a:lnTo>
                  <a:pt x="1537" y="60"/>
                </a:lnTo>
                <a:lnTo>
                  <a:pt x="1543" y="24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Object 70" descr=""/>
          <p:cNvPicPr/>
          <p:nvPr/>
        </p:nvPicPr>
        <p:blipFill>
          <a:blip r:embed="rId8"/>
          <a:stretch/>
        </p:blipFill>
        <p:spPr>
          <a:xfrm>
            <a:off x="5257800" y="3048120"/>
            <a:ext cx="1371600" cy="98892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73"/>
          <p:cNvGrpSpPr/>
          <p:nvPr/>
        </p:nvGrpSpPr>
        <p:grpSpPr>
          <a:xfrm>
            <a:off x="2438280" y="990720"/>
            <a:ext cx="3809880" cy="4114800"/>
            <a:chOff x="2438280" y="990720"/>
            <a:chExt cx="3809880" cy="4114800"/>
          </a:xfrm>
        </p:grpSpPr>
        <p:sp>
          <p:nvSpPr>
            <p:cNvPr id="441" name="Freeform 71"/>
            <p:cNvSpPr/>
            <p:nvPr/>
          </p:nvSpPr>
          <p:spPr>
            <a:xfrm>
              <a:off x="2438280" y="990720"/>
              <a:ext cx="3809880" cy="32767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2"/>
            <p:cNvSpPr/>
            <p:nvPr/>
          </p:nvSpPr>
          <p:spPr>
            <a:xfrm>
              <a:off x="4343400" y="990720"/>
              <a:ext cx="0" cy="4114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74"/>
          <p:cNvGrpSpPr/>
          <p:nvPr/>
        </p:nvGrpSpPr>
        <p:grpSpPr>
          <a:xfrm>
            <a:off x="2438280" y="990720"/>
            <a:ext cx="3809880" cy="4114800"/>
            <a:chOff x="2438280" y="990720"/>
            <a:chExt cx="3809880" cy="4114800"/>
          </a:xfrm>
        </p:grpSpPr>
        <p:sp>
          <p:nvSpPr>
            <p:cNvPr id="444" name="Freeform 75"/>
            <p:cNvSpPr/>
            <p:nvPr/>
          </p:nvSpPr>
          <p:spPr>
            <a:xfrm>
              <a:off x="2438280" y="990720"/>
              <a:ext cx="3809880" cy="32767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76"/>
            <p:cNvSpPr/>
            <p:nvPr/>
          </p:nvSpPr>
          <p:spPr>
            <a:xfrm>
              <a:off x="4343400" y="990720"/>
              <a:ext cx="0" cy="411480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6" name="Object 77" descr=""/>
          <p:cNvPicPr/>
          <p:nvPr/>
        </p:nvPicPr>
        <p:blipFill>
          <a:blip r:embed="rId9"/>
          <a:stretch/>
        </p:blipFill>
        <p:spPr>
          <a:xfrm>
            <a:off x="304920" y="304920"/>
            <a:ext cx="2679480" cy="988920"/>
          </a:xfrm>
          <a:prstGeom prst="rect">
            <a:avLst/>
          </a:prstGeom>
          <a:ln w="0">
            <a:noFill/>
          </a:ln>
        </p:spPr>
      </p:pic>
      <p:pic>
        <p:nvPicPr>
          <p:cNvPr id="447" name="Object 78" descr=""/>
          <p:cNvPicPr/>
          <p:nvPr/>
        </p:nvPicPr>
        <p:blipFill>
          <a:blip r:embed="rId10"/>
          <a:stretch/>
        </p:blipFill>
        <p:spPr>
          <a:xfrm>
            <a:off x="152280" y="4724280"/>
            <a:ext cx="2895840" cy="10810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6"/>
          <p:cNvSpPr/>
          <p:nvPr/>
        </p:nvSpPr>
        <p:spPr>
          <a:xfrm>
            <a:off x="2976120" y="38088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Box 47"/>
          <p:cNvSpPr/>
          <p:nvPr/>
        </p:nvSpPr>
        <p:spPr>
          <a:xfrm>
            <a:off x="2594880" y="327672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2,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48"/>
          <p:cNvSpPr/>
          <p:nvPr/>
        </p:nvSpPr>
        <p:spPr>
          <a:xfrm>
            <a:off x="2595240" y="594360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2,-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11667 2.22222E-006 E">
                                      <p:cBhvr>
                                        <p:cTn id="60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67 -4.44444E-006 L -0.11667 -0.15555 E">
                                      <p:cBhvr>
                                        <p:cTn id="61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-0.11667 2.22222E-006 E">
                                      <p:cBhvr>
                                        <p:cTn id="638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67 -4.44444E-006 L -0.11667 0.23334 E">
                                      <p:cBhvr>
                                        <p:cTn id="642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131760" y="228600"/>
          <a:ext cx="9012240" cy="6781680"/>
        </p:xfrm>
        <a:graphic>
          <a:graphicData uri="http://schemas.openxmlformats.org/drawingml/2006/table">
            <a:tbl>
              <a:tblPr/>
              <a:tblGrid>
                <a:gridCol w="1452600"/>
                <a:gridCol w="3741840"/>
                <a:gridCol w="38178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Text Box 58"/>
          <p:cNvSpPr/>
          <p:nvPr/>
        </p:nvSpPr>
        <p:spPr>
          <a:xfrm>
            <a:off x="393120" y="38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9"/>
          <p:cNvSpPr/>
          <p:nvPr/>
        </p:nvSpPr>
        <p:spPr>
          <a:xfrm>
            <a:off x="48348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0"/>
          <p:cNvSpPr/>
          <p:nvPr/>
        </p:nvSpPr>
        <p:spPr>
          <a:xfrm>
            <a:off x="31680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62"/>
          <p:cNvSpPr/>
          <p:nvPr/>
        </p:nvSpPr>
        <p:spPr>
          <a:xfrm>
            <a:off x="380880" y="12193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3"/>
          <p:cNvSpPr/>
          <p:nvPr/>
        </p:nvSpPr>
        <p:spPr>
          <a:xfrm>
            <a:off x="396360" y="4038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增减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64"/>
          <p:cNvSpPr/>
          <p:nvPr/>
        </p:nvSpPr>
        <p:spPr>
          <a:xfrm>
            <a:off x="5929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7"/>
          <p:cNvSpPr/>
          <p:nvPr/>
        </p:nvSpPr>
        <p:spPr>
          <a:xfrm>
            <a:off x="2214360" y="327672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8"/>
          <p:cNvSpPr/>
          <p:nvPr/>
        </p:nvSpPr>
        <p:spPr>
          <a:xfrm>
            <a:off x="6080760" y="3200400"/>
            <a:ext cx="18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69"/>
          <p:cNvSpPr/>
          <p:nvPr/>
        </p:nvSpPr>
        <p:spPr>
          <a:xfrm>
            <a:off x="2409840" y="22860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0"/>
          <p:cNvSpPr/>
          <p:nvPr/>
        </p:nvSpPr>
        <p:spPr>
          <a:xfrm>
            <a:off x="6143040" y="228600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3"/>
          <p:cNvSpPr/>
          <p:nvPr/>
        </p:nvSpPr>
        <p:spPr>
          <a:xfrm>
            <a:off x="276048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74"/>
          <p:cNvSpPr/>
          <p:nvPr/>
        </p:nvSpPr>
        <p:spPr>
          <a:xfrm>
            <a:off x="626580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2157480" y="4800600"/>
            <a:ext cx="18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最小值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6"/>
          <p:cNvSpPr/>
          <p:nvPr/>
        </p:nvSpPr>
        <p:spPr>
          <a:xfrm>
            <a:off x="6255360" y="4876920"/>
            <a:ext cx="170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时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最大值为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7"/>
          <p:cNvSpPr/>
          <p:nvPr/>
        </p:nvSpPr>
        <p:spPr>
          <a:xfrm>
            <a:off x="1752480" y="403848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的增大而减小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的增大而增大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Object 67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2679480" cy="9889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77"/>
          <p:cNvSpPr/>
          <p:nvPr/>
        </p:nvSpPr>
        <p:spPr>
          <a:xfrm>
            <a:off x="5562720" y="40384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增大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减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Object 54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283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6"/>
          <p:cNvSpPr/>
          <p:nvPr/>
        </p:nvSpPr>
        <p:spPr>
          <a:xfrm>
            <a:off x="1981080" y="9036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次函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图象和性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84040" y="2971800"/>
          <a:ext cx="8859960" cy="425124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Text Box 58"/>
          <p:cNvSpPr/>
          <p:nvPr/>
        </p:nvSpPr>
        <p:spPr>
          <a:xfrm>
            <a:off x="250200" y="29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9"/>
          <p:cNvSpPr/>
          <p:nvPr/>
        </p:nvSpPr>
        <p:spPr>
          <a:xfrm>
            <a:off x="48348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60"/>
          <p:cNvSpPr/>
          <p:nvPr/>
        </p:nvSpPr>
        <p:spPr>
          <a:xfrm>
            <a:off x="250200" y="405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48348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口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63"/>
          <p:cNvSpPr/>
          <p:nvPr/>
        </p:nvSpPr>
        <p:spPr>
          <a:xfrm>
            <a:off x="451440" y="51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64"/>
          <p:cNvSpPr/>
          <p:nvPr/>
        </p:nvSpPr>
        <p:spPr>
          <a:xfrm>
            <a:off x="516600" y="6172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65"/>
          <p:cNvSpPr/>
          <p:nvPr/>
        </p:nvSpPr>
        <p:spPr>
          <a:xfrm>
            <a:off x="1945440" y="298620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k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6"/>
          <p:cNvSpPr/>
          <p:nvPr/>
        </p:nvSpPr>
        <p:spPr>
          <a:xfrm>
            <a:off x="5679360" y="294336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k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l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7"/>
          <p:cNvSpPr/>
          <p:nvPr/>
        </p:nvSpPr>
        <p:spPr>
          <a:xfrm>
            <a:off x="2300760" y="4572000"/>
            <a:ext cx="17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8"/>
          <p:cNvSpPr/>
          <p:nvPr/>
        </p:nvSpPr>
        <p:spPr>
          <a:xfrm>
            <a:off x="6149160" y="45720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9"/>
          <p:cNvSpPr/>
          <p:nvPr/>
        </p:nvSpPr>
        <p:spPr>
          <a:xfrm>
            <a:off x="2358360" y="400356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0"/>
          <p:cNvSpPr/>
          <p:nvPr/>
        </p:nvSpPr>
        <p:spPr>
          <a:xfrm>
            <a:off x="6244560" y="403848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73"/>
          <p:cNvSpPr/>
          <p:nvPr/>
        </p:nvSpPr>
        <p:spPr>
          <a:xfrm>
            <a:off x="283680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74"/>
          <p:cNvSpPr/>
          <p:nvPr/>
        </p:nvSpPr>
        <p:spPr>
          <a:xfrm>
            <a:off x="626580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5"/>
          <p:cNvSpPr/>
          <p:nvPr/>
        </p:nvSpPr>
        <p:spPr>
          <a:xfrm>
            <a:off x="1896120" y="6172200"/>
            <a:ext cx="28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最小值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76"/>
          <p:cNvSpPr/>
          <p:nvPr/>
        </p:nvSpPr>
        <p:spPr>
          <a:xfrm>
            <a:off x="5554440" y="6095880"/>
            <a:ext cx="28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当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最大值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k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7"/>
          <p:cNvSpPr/>
          <p:nvPr/>
        </p:nvSpPr>
        <p:spPr>
          <a:xfrm>
            <a:off x="1676520" y="51055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的增大而减小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的增大而增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78"/>
          <p:cNvSpPr/>
          <p:nvPr/>
        </p:nvSpPr>
        <p:spPr>
          <a:xfrm>
            <a:off x="5257800" y="51055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左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增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在对称轴的右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的增大而减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82" descr="1"/>
          <p:cNvPicPr/>
          <p:nvPr/>
        </p:nvPicPr>
        <p:blipFill>
          <a:blip r:embed="rId1"/>
          <a:srcRect l="6227" t="0" r="53276" b="44699"/>
          <a:stretch/>
        </p:blipFill>
        <p:spPr>
          <a:xfrm>
            <a:off x="1371600" y="762120"/>
            <a:ext cx="1905120" cy="1950840"/>
          </a:xfrm>
          <a:prstGeom prst="rect">
            <a:avLst/>
          </a:prstGeom>
          <a:ln w="0">
            <a:noFill/>
          </a:ln>
        </p:spPr>
      </p:pic>
      <p:sp>
        <p:nvSpPr>
          <p:cNvPr id="492" name="Line 83"/>
          <p:cNvSpPr/>
          <p:nvPr/>
        </p:nvSpPr>
        <p:spPr>
          <a:xfrm>
            <a:off x="2057400" y="533520"/>
            <a:ext cx="46080" cy="2361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84" descr="1"/>
          <p:cNvPicPr/>
          <p:nvPr/>
        </p:nvPicPr>
        <p:blipFill>
          <a:blip r:embed="rId2"/>
          <a:srcRect l="13686" t="25222" r="42732" b="18249"/>
          <a:stretch/>
        </p:blipFill>
        <p:spPr>
          <a:xfrm>
            <a:off x="5715000" y="762120"/>
            <a:ext cx="1981080" cy="1927080"/>
          </a:xfrm>
          <a:prstGeom prst="rect">
            <a:avLst/>
          </a:prstGeom>
          <a:ln w="0">
            <a:noFill/>
          </a:ln>
        </p:spPr>
      </p:pic>
      <p:sp>
        <p:nvSpPr>
          <p:cNvPr id="494" name="Line 85"/>
          <p:cNvSpPr/>
          <p:nvPr/>
        </p:nvSpPr>
        <p:spPr>
          <a:xfrm>
            <a:off x="6858000" y="533520"/>
            <a:ext cx="460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76320"/>
            <a:ext cx="9296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出下列函数图象的开口方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称轴和顶点坐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Object 26" descr=""/>
          <p:cNvPicPr/>
          <p:nvPr/>
        </p:nvPicPr>
        <p:blipFill>
          <a:blip r:embed="rId1"/>
          <a:stretch/>
        </p:blipFill>
        <p:spPr>
          <a:xfrm>
            <a:off x="-73080" y="1295280"/>
            <a:ext cx="3390840" cy="701640"/>
          </a:xfrm>
          <a:prstGeom prst="rect">
            <a:avLst/>
          </a:prstGeom>
          <a:ln w="0">
            <a:noFill/>
          </a:ln>
        </p:spPr>
      </p:pic>
      <p:pic>
        <p:nvPicPr>
          <p:cNvPr id="497" name="Object 27" descr=""/>
          <p:cNvPicPr/>
          <p:nvPr/>
        </p:nvPicPr>
        <p:blipFill>
          <a:blip r:embed="rId2"/>
          <a:stretch/>
        </p:blipFill>
        <p:spPr>
          <a:xfrm>
            <a:off x="-73080" y="2209680"/>
            <a:ext cx="3281400" cy="687600"/>
          </a:xfrm>
          <a:prstGeom prst="rect">
            <a:avLst/>
          </a:prstGeom>
          <a:ln w="0">
            <a:noFill/>
          </a:ln>
        </p:spPr>
      </p:pic>
      <p:pic>
        <p:nvPicPr>
          <p:cNvPr id="498" name="Object 28" descr=""/>
          <p:cNvPicPr/>
          <p:nvPr/>
        </p:nvPicPr>
        <p:blipFill>
          <a:blip r:embed="rId3"/>
          <a:stretch/>
        </p:blipFill>
        <p:spPr>
          <a:xfrm>
            <a:off x="-73080" y="2965320"/>
            <a:ext cx="2790720" cy="107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29" descr=""/>
          <p:cNvPicPr/>
          <p:nvPr/>
        </p:nvPicPr>
        <p:blipFill>
          <a:blip r:embed="rId4"/>
          <a:stretch/>
        </p:blipFill>
        <p:spPr>
          <a:xfrm>
            <a:off x="-73080" y="4030560"/>
            <a:ext cx="3467160" cy="69372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30" descr=""/>
          <p:cNvPicPr/>
          <p:nvPr/>
        </p:nvPicPr>
        <p:blipFill>
          <a:blip r:embed="rId5"/>
          <a:stretch/>
        </p:blipFill>
        <p:spPr>
          <a:xfrm>
            <a:off x="-73080" y="4859280"/>
            <a:ext cx="3846600" cy="70344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31" descr=""/>
          <p:cNvPicPr/>
          <p:nvPr/>
        </p:nvPicPr>
        <p:blipFill>
          <a:blip r:embed="rId6"/>
          <a:stretch/>
        </p:blipFill>
        <p:spPr>
          <a:xfrm>
            <a:off x="-73080" y="5638680"/>
            <a:ext cx="3056040" cy="1068480"/>
          </a:xfrm>
          <a:prstGeom prst="rect">
            <a:avLst/>
          </a:prstGeom>
          <a:ln w="0">
            <a:noFill/>
          </a:ln>
        </p:spPr>
      </p:pic>
      <p:sp>
        <p:nvSpPr>
          <p:cNvPr id="502" name="Line 33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34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5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36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7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38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39"/>
          <p:cNvSpPr/>
          <p:nvPr/>
        </p:nvSpPr>
        <p:spPr>
          <a:xfrm>
            <a:off x="373392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40"/>
          <p:cNvSpPr/>
          <p:nvPr/>
        </p:nvSpPr>
        <p:spPr>
          <a:xfrm>
            <a:off x="51814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1"/>
          <p:cNvSpPr/>
          <p:nvPr/>
        </p:nvSpPr>
        <p:spPr>
          <a:xfrm>
            <a:off x="7238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2"/>
          <p:cNvSpPr/>
          <p:nvPr/>
        </p:nvSpPr>
        <p:spPr>
          <a:xfrm>
            <a:off x="4655880" y="63972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开口      对称轴      顶点坐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3"/>
          <p:cNvSpPr/>
          <p:nvPr/>
        </p:nvSpPr>
        <p:spPr>
          <a:xfrm>
            <a:off x="4118400" y="1363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4"/>
          <p:cNvSpPr/>
          <p:nvPr/>
        </p:nvSpPr>
        <p:spPr>
          <a:xfrm>
            <a:off x="5450400" y="139860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5"/>
          <p:cNvSpPr/>
          <p:nvPr/>
        </p:nvSpPr>
        <p:spPr>
          <a:xfrm>
            <a:off x="7520760" y="135252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3,–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6"/>
          <p:cNvSpPr/>
          <p:nvPr/>
        </p:nvSpPr>
        <p:spPr>
          <a:xfrm>
            <a:off x="4128120" y="2297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7"/>
          <p:cNvSpPr/>
          <p:nvPr/>
        </p:nvSpPr>
        <p:spPr>
          <a:xfrm>
            <a:off x="5373360" y="2332080"/>
            <a:ext cx="17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 –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8"/>
          <p:cNvSpPr/>
          <p:nvPr/>
        </p:nvSpPr>
        <p:spPr>
          <a:xfrm>
            <a:off x="7530480" y="22860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(–1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9"/>
          <p:cNvSpPr/>
          <p:nvPr/>
        </p:nvSpPr>
        <p:spPr>
          <a:xfrm>
            <a:off x="4128120" y="3211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0"/>
          <p:cNvSpPr/>
          <p:nvPr/>
        </p:nvSpPr>
        <p:spPr>
          <a:xfrm>
            <a:off x="5459760" y="324648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1"/>
          <p:cNvSpPr/>
          <p:nvPr/>
        </p:nvSpPr>
        <p:spPr>
          <a:xfrm>
            <a:off x="7530480" y="32004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–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52"/>
          <p:cNvSpPr/>
          <p:nvPr/>
        </p:nvSpPr>
        <p:spPr>
          <a:xfrm>
            <a:off x="4137480" y="4125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3"/>
          <p:cNvSpPr/>
          <p:nvPr/>
        </p:nvSpPr>
        <p:spPr>
          <a:xfrm>
            <a:off x="5469120" y="416088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4"/>
          <p:cNvSpPr/>
          <p:nvPr/>
        </p:nvSpPr>
        <p:spPr>
          <a:xfrm>
            <a:off x="7540200" y="411480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(2, 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5"/>
          <p:cNvSpPr/>
          <p:nvPr/>
        </p:nvSpPr>
        <p:spPr>
          <a:xfrm>
            <a:off x="4109040" y="488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6"/>
          <p:cNvSpPr/>
          <p:nvPr/>
        </p:nvSpPr>
        <p:spPr>
          <a:xfrm>
            <a:off x="5220720" y="4923000"/>
            <a:ext cx="181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 –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7"/>
          <p:cNvSpPr/>
          <p:nvPr/>
        </p:nvSpPr>
        <p:spPr>
          <a:xfrm>
            <a:off x="7511040" y="487692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– 4,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4118400" y="5821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9"/>
          <p:cNvSpPr/>
          <p:nvPr/>
        </p:nvSpPr>
        <p:spPr>
          <a:xfrm>
            <a:off x="5450400" y="58561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宋体"/>
              </a:rPr>
              <a:t>直线</a:t>
            </a:r>
            <a:r>
              <a:rPr b="1" i="1" lang="en-US" sz="32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=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0"/>
          <p:cNvSpPr/>
          <p:nvPr/>
        </p:nvSpPr>
        <p:spPr>
          <a:xfrm>
            <a:off x="7521480" y="58104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(3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1146240" y="1558080"/>
            <a:ext cx="703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抛物线的上下平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上平移３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-301680" y="21240"/>
            <a:ext cx="91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考考你学的怎么样</a:t>
            </a:r>
            <a:r>
              <a:rPr b="1" lang="zh-CN" sz="6000" spc="-1" strike="noStrike">
                <a:solidFill>
                  <a:srgbClr val="000099"/>
                </a:solidFill>
                <a:latin typeface="Calibri"/>
                <a:ea typeface="楷体"/>
              </a:rPr>
              <a:t>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矩形 3"/>
          <p:cNvSpPr/>
          <p:nvPr/>
        </p:nvSpPr>
        <p:spPr>
          <a:xfrm>
            <a:off x="1388880" y="320040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(x+1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矩形 4"/>
          <p:cNvSpPr/>
          <p:nvPr/>
        </p:nvSpPr>
        <p:spPr>
          <a:xfrm>
            <a:off x="4358880" y="373392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120680" y="1413720"/>
            <a:ext cx="706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抛物线的左右平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左平移３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右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2"/>
          <p:cNvSpPr/>
          <p:nvPr/>
        </p:nvSpPr>
        <p:spPr>
          <a:xfrm>
            <a:off x="1615680" y="29718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(x+4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3"/>
          <p:cNvSpPr/>
          <p:nvPr/>
        </p:nvSpPr>
        <p:spPr>
          <a:xfrm>
            <a:off x="4132080" y="365760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(x+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1112400" y="982800"/>
            <a:ext cx="683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抛物线的平移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左平移３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把二次函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右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-3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3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1465200" y="31240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3(x+3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3"/>
          <p:cNvSpPr/>
          <p:nvPr/>
        </p:nvSpPr>
        <p:spPr>
          <a:xfrm>
            <a:off x="4359600" y="373392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-3(x+6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13"/>
          <p:cNvGrpSpPr/>
          <p:nvPr/>
        </p:nvGrpSpPr>
        <p:grpSpPr>
          <a:xfrm>
            <a:off x="495360" y="1197000"/>
            <a:ext cx="7741440" cy="819000"/>
            <a:chOff x="495360" y="1197000"/>
            <a:chExt cx="7741440" cy="819000"/>
          </a:xfrm>
        </p:grpSpPr>
        <p:pic>
          <p:nvPicPr>
            <p:cNvPr id="541" name="Object 3" descr=""/>
            <p:cNvPicPr/>
            <p:nvPr/>
          </p:nvPicPr>
          <p:blipFill>
            <a:blip r:embed="rId1"/>
            <a:stretch/>
          </p:blipFill>
          <p:spPr>
            <a:xfrm>
              <a:off x="2195640" y="1197000"/>
              <a:ext cx="165564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5"/>
            <p:cNvSpPr/>
            <p:nvPr/>
          </p:nvSpPr>
          <p:spPr>
            <a:xfrm>
              <a:off x="495360" y="137340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4.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抛物线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6"/>
            <p:cNvSpPr/>
            <p:nvPr/>
          </p:nvSpPr>
          <p:spPr>
            <a:xfrm>
              <a:off x="4417200" y="1255320"/>
              <a:ext cx="38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顶点坐标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宋体"/>
                </a:rPr>
                <a:t>________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508320" y="2204640"/>
            <a:ext cx="7655400" cy="1191240"/>
            <a:chOff x="508320" y="2204640"/>
            <a:chExt cx="7655400" cy="1191240"/>
          </a:xfrm>
        </p:grpSpPr>
        <p:pic>
          <p:nvPicPr>
            <p:cNvPr id="545" name="Object 7" descr=""/>
            <p:cNvPicPr/>
            <p:nvPr/>
          </p:nvPicPr>
          <p:blipFill>
            <a:blip r:embed="rId2"/>
            <a:stretch/>
          </p:blipFill>
          <p:spPr>
            <a:xfrm>
              <a:off x="2195640" y="2205000"/>
              <a:ext cx="15843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Rectangle 7"/>
            <p:cNvSpPr/>
            <p:nvPr/>
          </p:nvSpPr>
          <p:spPr>
            <a:xfrm>
              <a:off x="4344120" y="2204640"/>
              <a:ext cx="381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向上平移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单位后，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顶点的坐标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宋体"/>
                </a:rPr>
                <a:t>________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9"/>
            <p:cNvSpPr/>
            <p:nvPr/>
          </p:nvSpPr>
          <p:spPr>
            <a:xfrm>
              <a:off x="508320" y="227592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5.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抛物线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11"/>
          <p:cNvGrpSpPr/>
          <p:nvPr/>
        </p:nvGrpSpPr>
        <p:grpSpPr>
          <a:xfrm>
            <a:off x="581040" y="3716280"/>
            <a:ext cx="7212240" cy="835200"/>
            <a:chOff x="581040" y="3716280"/>
            <a:chExt cx="7212240" cy="835200"/>
          </a:xfrm>
        </p:grpSpPr>
        <p:pic>
          <p:nvPicPr>
            <p:cNvPr id="549" name="Object 11" descr=""/>
            <p:cNvPicPr/>
            <p:nvPr/>
          </p:nvPicPr>
          <p:blipFill>
            <a:blip r:embed="rId3"/>
            <a:stretch/>
          </p:blipFill>
          <p:spPr>
            <a:xfrm>
              <a:off x="2339640" y="3716280"/>
              <a:ext cx="22316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8"/>
            <p:cNvSpPr/>
            <p:nvPr/>
          </p:nvSpPr>
          <p:spPr>
            <a:xfrm>
              <a:off x="5063040" y="3788640"/>
              <a:ext cx="273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749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对称轴是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宋体"/>
                </a:rPr>
                <a:t>_____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81040" y="38602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6.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抛物线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矩形 13"/>
          <p:cNvSpPr/>
          <p:nvPr/>
        </p:nvSpPr>
        <p:spPr>
          <a:xfrm>
            <a:off x="6862680" y="11430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-1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矩形 14"/>
          <p:cNvSpPr/>
          <p:nvPr/>
        </p:nvSpPr>
        <p:spPr>
          <a:xfrm>
            <a:off x="6939000" y="274320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-1,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矩形 15"/>
          <p:cNvSpPr/>
          <p:nvPr/>
        </p:nvSpPr>
        <p:spPr>
          <a:xfrm>
            <a:off x="7090920" y="373392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38160" y="1205640"/>
            <a:ext cx="88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4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图像的对称轴是直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抛物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2)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右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二次函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像，先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向左平移３个单位，再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轴向下平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位，得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图像的顶点坐标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矩形 14"/>
          <p:cNvSpPr/>
          <p:nvPr/>
        </p:nvSpPr>
        <p:spPr>
          <a:xfrm>
            <a:off x="35640" y="1523880"/>
            <a:ext cx="6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矩形 15"/>
          <p:cNvSpPr/>
          <p:nvPr/>
        </p:nvSpPr>
        <p:spPr>
          <a:xfrm>
            <a:off x="1526760" y="14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1691280" y="365760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-3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矩形 17"/>
          <p:cNvSpPr/>
          <p:nvPr/>
        </p:nvSpPr>
        <p:spPr>
          <a:xfrm>
            <a:off x="6634080" y="533412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-3,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0"/>
          <p:cNvSpPr/>
          <p:nvPr/>
        </p:nvSpPr>
        <p:spPr>
          <a:xfrm>
            <a:off x="3505320" y="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楷体"/>
                <a:ea typeface="楷体"/>
              </a:rPr>
              <a:t>1.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填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WordArt 11" descr=""/>
          <p:cNvPicPr/>
          <p:nvPr/>
        </p:nvPicPr>
        <p:blipFill>
          <a:blip r:embed="rId1"/>
          <a:stretch/>
        </p:blipFill>
        <p:spPr>
          <a:xfrm>
            <a:off x="-3240" y="-3240"/>
            <a:ext cx="2752920" cy="7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0" y="609480"/>
          <a:ext cx="9144000" cy="61117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抛物线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开口方向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对称轴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顶点坐标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7" name="Object 46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016000" cy="83016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47" descr=""/>
          <p:cNvPicPr/>
          <p:nvPr/>
        </p:nvPicPr>
        <p:blipFill>
          <a:blip r:embed="rId3"/>
          <a:stretch/>
        </p:blipFill>
        <p:spPr>
          <a:xfrm>
            <a:off x="152280" y="2743200"/>
            <a:ext cx="2132280" cy="64152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48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213372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49" descr=""/>
          <p:cNvPicPr/>
          <p:nvPr/>
        </p:nvPicPr>
        <p:blipFill>
          <a:blip r:embed="rId5"/>
          <a:stretch/>
        </p:blipFill>
        <p:spPr>
          <a:xfrm>
            <a:off x="304920" y="4572000"/>
            <a:ext cx="1728720" cy="79848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0" descr=""/>
          <p:cNvPicPr/>
          <p:nvPr/>
        </p:nvPicPr>
        <p:blipFill>
          <a:blip r:embed="rId6"/>
          <a:stretch/>
        </p:blipFill>
        <p:spPr>
          <a:xfrm>
            <a:off x="304920" y="5257800"/>
            <a:ext cx="1871640" cy="68724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1" descr=""/>
          <p:cNvPicPr/>
          <p:nvPr/>
        </p:nvPicPr>
        <p:blipFill>
          <a:blip r:embed="rId7"/>
          <a:stretch/>
        </p:blipFill>
        <p:spPr>
          <a:xfrm>
            <a:off x="0" y="6019920"/>
            <a:ext cx="2301840" cy="668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7"/>
          <p:cNvSpPr/>
          <p:nvPr/>
        </p:nvSpPr>
        <p:spPr>
          <a:xfrm>
            <a:off x="7315200" y="4572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7"/>
          <p:cNvSpPr/>
          <p:nvPr/>
        </p:nvSpPr>
        <p:spPr>
          <a:xfrm>
            <a:off x="7467480" y="5334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1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7"/>
          <p:cNvSpPr/>
          <p:nvPr/>
        </p:nvSpPr>
        <p:spPr>
          <a:xfrm>
            <a:off x="7086600" y="6095880"/>
            <a:ext cx="14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 1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7"/>
          <p:cNvSpPr/>
          <p:nvPr/>
        </p:nvSpPr>
        <p:spPr>
          <a:xfrm>
            <a:off x="7238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7"/>
          <p:cNvSpPr/>
          <p:nvPr/>
        </p:nvSpPr>
        <p:spPr>
          <a:xfrm>
            <a:off x="7315200" y="27432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7"/>
          <p:cNvSpPr/>
          <p:nvPr/>
        </p:nvSpPr>
        <p:spPr>
          <a:xfrm>
            <a:off x="7086600" y="3657600"/>
            <a:ext cx="15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0, - 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9"/>
          <p:cNvSpPr/>
          <p:nvPr/>
        </p:nvSpPr>
        <p:spPr>
          <a:xfrm>
            <a:off x="314136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70"/>
          <p:cNvSpPr/>
          <p:nvPr/>
        </p:nvSpPr>
        <p:spPr>
          <a:xfrm>
            <a:off x="321768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1"/>
          <p:cNvSpPr/>
          <p:nvPr/>
        </p:nvSpPr>
        <p:spPr>
          <a:xfrm>
            <a:off x="314136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2"/>
          <p:cNvSpPr/>
          <p:nvPr/>
        </p:nvSpPr>
        <p:spPr>
          <a:xfrm>
            <a:off x="3217680" y="464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3"/>
          <p:cNvSpPr/>
          <p:nvPr/>
        </p:nvSpPr>
        <p:spPr>
          <a:xfrm>
            <a:off x="30654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75"/>
          <p:cNvSpPr/>
          <p:nvPr/>
        </p:nvSpPr>
        <p:spPr>
          <a:xfrm>
            <a:off x="5490360" y="1981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76"/>
          <p:cNvSpPr/>
          <p:nvPr/>
        </p:nvSpPr>
        <p:spPr>
          <a:xfrm>
            <a:off x="5490360" y="27432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5490360" y="36576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8"/>
          <p:cNvSpPr/>
          <p:nvPr/>
        </p:nvSpPr>
        <p:spPr>
          <a:xfrm>
            <a:off x="5490360" y="46483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79"/>
          <p:cNvSpPr/>
          <p:nvPr/>
        </p:nvSpPr>
        <p:spPr>
          <a:xfrm>
            <a:off x="5334120" y="541008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0"/>
          <p:cNvSpPr/>
          <p:nvPr/>
        </p:nvSpPr>
        <p:spPr>
          <a:xfrm>
            <a:off x="5338800" y="609588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3"/>
          <p:cNvSpPr/>
          <p:nvPr/>
        </p:nvSpPr>
        <p:spPr>
          <a:xfrm>
            <a:off x="3141360" y="609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991440" y="197280"/>
            <a:ext cx="574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如图所示的抛物线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=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=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&lt;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&gt;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时，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_____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在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范围内时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&gt;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=_____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时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有最大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图片 4" descr="http://file.qlteacher.com/upload/cz2010/images/1008/10/125758761.GIF"/>
          <p:cNvPicPr/>
          <p:nvPr/>
        </p:nvPicPr>
        <p:blipFill>
          <a:blip r:embed="rId1"/>
          <a:stretch/>
        </p:blipFill>
        <p:spPr>
          <a:xfrm>
            <a:off x="762120" y="3475080"/>
            <a:ext cx="4800600" cy="33829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5"/>
          <p:cNvSpPr/>
          <p:nvPr/>
        </p:nvSpPr>
        <p:spPr>
          <a:xfrm>
            <a:off x="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27460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矩形 6"/>
          <p:cNvSpPr/>
          <p:nvPr/>
        </p:nvSpPr>
        <p:spPr>
          <a:xfrm>
            <a:off x="1667160" y="838080"/>
            <a:ext cx="12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矩形 8"/>
          <p:cNvSpPr/>
          <p:nvPr/>
        </p:nvSpPr>
        <p:spPr>
          <a:xfrm>
            <a:off x="5032800" y="144792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矩形 9"/>
          <p:cNvSpPr/>
          <p:nvPr/>
        </p:nvSpPr>
        <p:spPr>
          <a:xfrm>
            <a:off x="1873440" y="190512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 &lt; x&lt;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矩形 10"/>
          <p:cNvSpPr/>
          <p:nvPr/>
        </p:nvSpPr>
        <p:spPr>
          <a:xfrm>
            <a:off x="2136600" y="251460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矩形 11"/>
          <p:cNvSpPr/>
          <p:nvPr/>
        </p:nvSpPr>
        <p:spPr>
          <a:xfrm>
            <a:off x="6404400" y="25146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1"/>
          <p:cNvSpPr/>
          <p:nvPr/>
        </p:nvSpPr>
        <p:spPr>
          <a:xfrm>
            <a:off x="228600" y="380880"/>
            <a:ext cx="89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、试分别说明将抛物线的图象通过怎样的平移得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=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的图象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1) y=(x-3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2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2)y=(x+4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矩形 3"/>
          <p:cNvSpPr/>
          <p:nvPr/>
        </p:nvSpPr>
        <p:spPr>
          <a:xfrm>
            <a:off x="380880" y="44197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抛物线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相同，顶点为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抛物线解析式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矩形 4"/>
          <p:cNvSpPr/>
          <p:nvPr/>
        </p:nvSpPr>
        <p:spPr>
          <a:xfrm>
            <a:off x="457200" y="2514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先向左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，再向下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533520" y="380988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先向右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，再向上平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1237680" y="5638680"/>
            <a:ext cx="48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 - 4(x-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 4(x-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6"/>
          <p:cNvSpPr/>
          <p:nvPr/>
        </p:nvSpPr>
        <p:spPr>
          <a:xfrm>
            <a:off x="380880" y="2286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二次函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如图所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求解析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8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95680" cy="36147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4"/>
          <p:cNvSpPr/>
          <p:nvPr/>
        </p:nvSpPr>
        <p:spPr>
          <a:xfrm>
            <a:off x="6862320" y="571500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,-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5109120" y="49528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7699680" y="49528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矩形 7"/>
          <p:cNvSpPr/>
          <p:nvPr/>
        </p:nvSpPr>
        <p:spPr>
          <a:xfrm>
            <a:off x="626760" y="6273720"/>
            <a:ext cx="47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矩形 8"/>
          <p:cNvSpPr/>
          <p:nvPr/>
        </p:nvSpPr>
        <p:spPr>
          <a:xfrm>
            <a:off x="801720" y="5791320"/>
            <a:ext cx="42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0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矩形 9"/>
          <p:cNvSpPr/>
          <p:nvPr/>
        </p:nvSpPr>
        <p:spPr>
          <a:xfrm>
            <a:off x="380880" y="441972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根据图象回答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0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1300320" y="1536120"/>
            <a:ext cx="4188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解：∵二次函数图象的顶点是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1,-1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设抛物线解析式是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=a(x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-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其图象过点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0,0)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= a(0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-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=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= (x-1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矩形 11"/>
          <p:cNvSpPr/>
          <p:nvPr/>
        </p:nvSpPr>
        <p:spPr>
          <a:xfrm>
            <a:off x="1519560" y="5029200"/>
            <a:ext cx="18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x&lt;0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x&gt;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矩形 12"/>
          <p:cNvSpPr/>
          <p:nvPr/>
        </p:nvSpPr>
        <p:spPr>
          <a:xfrm>
            <a:off x="1837440" y="6273720"/>
            <a:ext cx="12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&lt; x&lt;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1591920" y="5715000"/>
            <a:ext cx="14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=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katong1_020"/>
          <p:cNvPicPr/>
          <p:nvPr/>
        </p:nvPicPr>
        <p:blipFill>
          <a:blip r:embed="rId1"/>
          <a:stretch/>
        </p:blipFill>
        <p:spPr>
          <a:xfrm>
            <a:off x="0" y="4486320"/>
            <a:ext cx="1752480" cy="2371680"/>
          </a:xfrm>
          <a:prstGeom prst="rect">
            <a:avLst/>
          </a:prstGeom>
          <a:ln w="0">
            <a:noFill/>
          </a:ln>
        </p:spPr>
      </p:pic>
      <p:grpSp>
        <p:nvGrpSpPr>
          <p:cNvPr id="587" name="Group 4"/>
          <p:cNvGrpSpPr/>
          <p:nvPr/>
        </p:nvGrpSpPr>
        <p:grpSpPr>
          <a:xfrm>
            <a:off x="1523880" y="0"/>
            <a:ext cx="8152200" cy="6018840"/>
            <a:chOff x="1523880" y="0"/>
            <a:chExt cx="8152200" cy="6018840"/>
          </a:xfrm>
        </p:grpSpPr>
        <p:pic>
          <p:nvPicPr>
            <p:cNvPr id="588" name="Picture 5" descr="gif1450"/>
            <p:cNvPicPr/>
            <p:nvPr/>
          </p:nvPicPr>
          <p:blipFill>
            <a:blip r:embed="rId2"/>
            <a:stretch/>
          </p:blipFill>
          <p:spPr>
            <a:xfrm>
              <a:off x="5984280" y="0"/>
              <a:ext cx="3691800" cy="601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Group 6"/>
            <p:cNvGrpSpPr/>
            <p:nvPr/>
          </p:nvGrpSpPr>
          <p:grpSpPr>
            <a:xfrm>
              <a:off x="1523880" y="166320"/>
              <a:ext cx="5164560" cy="4635000"/>
              <a:chOff x="1523880" y="166320"/>
              <a:chExt cx="5164560" cy="4635000"/>
            </a:xfrm>
          </p:grpSpPr>
          <p:sp>
            <p:nvSpPr>
              <p:cNvPr id="590" name="AutoShape 7"/>
              <p:cNvSpPr/>
              <p:nvPr/>
            </p:nvSpPr>
            <p:spPr>
              <a:xfrm>
                <a:off x="1523880" y="261720"/>
                <a:ext cx="5047200" cy="45396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8"/>
              <p:cNvSpPr/>
              <p:nvPr/>
            </p:nvSpPr>
            <p:spPr>
              <a:xfrm>
                <a:off x="1581840" y="166320"/>
                <a:ext cx="5106600" cy="22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9"/>
            <p:cNvSpPr/>
            <p:nvPr/>
          </p:nvSpPr>
          <p:spPr>
            <a:xfrm>
              <a:off x="2207880" y="1752840"/>
              <a:ext cx="4695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1" lang="en-US" sz="9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914400" y="1550880"/>
            <a:ext cx="7584120" cy="5307120"/>
            <a:chOff x="914400" y="1550880"/>
            <a:chExt cx="7584120" cy="5307120"/>
          </a:xfrm>
        </p:grpSpPr>
        <p:grpSp>
          <p:nvGrpSpPr>
            <p:cNvPr id="152" name="Group 3"/>
            <p:cNvGrpSpPr/>
            <p:nvPr/>
          </p:nvGrpSpPr>
          <p:grpSpPr>
            <a:xfrm>
              <a:off x="914400" y="1550880"/>
              <a:ext cx="7238520" cy="5307120"/>
              <a:chOff x="914400" y="1550880"/>
              <a:chExt cx="7238520" cy="5307120"/>
            </a:xfrm>
          </p:grpSpPr>
          <p:pic>
            <p:nvPicPr>
              <p:cNvPr id="153" name="Picture 4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914400" y="1550880"/>
                <a:ext cx="3498480" cy="312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5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292280" y="1550880"/>
                <a:ext cx="3860640" cy="312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6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914400" y="4532760"/>
                <a:ext cx="3498480" cy="23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7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292280" y="4532760"/>
                <a:ext cx="3860640" cy="23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Line 8"/>
              <p:cNvSpPr/>
              <p:nvPr/>
            </p:nvSpPr>
            <p:spPr>
              <a:xfrm>
                <a:off x="914400" y="4575600"/>
                <a:ext cx="7238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9"/>
              <p:cNvSpPr/>
              <p:nvPr/>
            </p:nvSpPr>
            <p:spPr>
              <a:xfrm flipV="1">
                <a:off x="4352400" y="1656360"/>
                <a:ext cx="0" cy="477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10"/>
            <p:cNvSpPr/>
            <p:nvPr/>
          </p:nvSpPr>
          <p:spPr>
            <a:xfrm>
              <a:off x="3942360" y="4522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8113680" y="426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4436640" y="1550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460224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501480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543672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585900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281640" y="454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3999240" y="404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4011840" y="364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4011840" y="327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1"/>
            <p:cNvSpPr/>
            <p:nvPr/>
          </p:nvSpPr>
          <p:spPr>
            <a:xfrm>
              <a:off x="4011840" y="2900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4011840" y="25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3"/>
            <p:cNvSpPr/>
            <p:nvPr/>
          </p:nvSpPr>
          <p:spPr>
            <a:xfrm>
              <a:off x="193968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237816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80044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6"/>
            <p:cNvSpPr/>
            <p:nvPr/>
          </p:nvSpPr>
          <p:spPr>
            <a:xfrm>
              <a:off x="322272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3645000" y="4543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8"/>
            <p:cNvSpPr/>
            <p:nvPr/>
          </p:nvSpPr>
          <p:spPr>
            <a:xfrm>
              <a:off x="3886200" y="6242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9"/>
            <p:cNvSpPr/>
            <p:nvPr/>
          </p:nvSpPr>
          <p:spPr>
            <a:xfrm>
              <a:off x="3886200" y="58705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3886200" y="54990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1"/>
            <p:cNvSpPr/>
            <p:nvPr/>
          </p:nvSpPr>
          <p:spPr>
            <a:xfrm>
              <a:off x="3886200" y="51274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2"/>
            <p:cNvSpPr/>
            <p:nvPr/>
          </p:nvSpPr>
          <p:spPr>
            <a:xfrm>
              <a:off x="3886200" y="4755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Freeform 35"/>
          <p:cNvSpPr/>
          <p:nvPr/>
        </p:nvSpPr>
        <p:spPr>
          <a:xfrm flipV="1">
            <a:off x="2209680" y="4571280"/>
            <a:ext cx="4319640" cy="284940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bject 36" descr=""/>
          <p:cNvPicPr/>
          <p:nvPr/>
        </p:nvPicPr>
        <p:blipFill>
          <a:blip r:embed="rId5"/>
          <a:stretch/>
        </p:blipFill>
        <p:spPr>
          <a:xfrm>
            <a:off x="6400800" y="5470560"/>
            <a:ext cx="1700280" cy="105408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37"/>
          <p:cNvSpPr/>
          <p:nvPr/>
        </p:nvSpPr>
        <p:spPr>
          <a:xfrm flipV="1">
            <a:off x="2209680" y="4571280"/>
            <a:ext cx="4319640" cy="284940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45"/>
          <p:cNvSpPr/>
          <p:nvPr/>
        </p:nvSpPr>
        <p:spPr>
          <a:xfrm flipV="1">
            <a:off x="2209680" y="4571280"/>
            <a:ext cx="4319640" cy="284940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44"/>
          <p:cNvSpPr/>
          <p:nvPr/>
        </p:nvSpPr>
        <p:spPr>
          <a:xfrm>
            <a:off x="4264920" y="297180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,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45"/>
          <p:cNvSpPr/>
          <p:nvPr/>
        </p:nvSpPr>
        <p:spPr>
          <a:xfrm>
            <a:off x="4265280" y="518148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,-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83"/>
          <p:cNvSpPr/>
          <p:nvPr/>
        </p:nvSpPr>
        <p:spPr>
          <a:xfrm>
            <a:off x="2684520" y="2286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由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Object 40" descr=""/>
          <p:cNvPicPr/>
          <p:nvPr/>
        </p:nvPicPr>
        <p:blipFill>
          <a:blip r:embed="rId6"/>
          <a:stretch/>
        </p:blipFill>
        <p:spPr>
          <a:xfrm>
            <a:off x="3886200" y="0"/>
            <a:ext cx="1905120" cy="933480"/>
          </a:xfrm>
          <a:prstGeom prst="rect">
            <a:avLst/>
          </a:prstGeom>
          <a:ln w="0">
            <a:noFill/>
          </a:ln>
        </p:spPr>
      </p:pic>
      <p:sp>
        <p:nvSpPr>
          <p:cNvPr id="190" name="矩形 85"/>
          <p:cNvSpPr/>
          <p:nvPr/>
        </p:nvSpPr>
        <p:spPr>
          <a:xfrm>
            <a:off x="6364080" y="2286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得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Object 42" descr=""/>
          <p:cNvPicPr/>
          <p:nvPr/>
        </p:nvPicPr>
        <p:blipFill>
          <a:blip r:embed="rId7"/>
          <a:stretch/>
        </p:blipFill>
        <p:spPr>
          <a:xfrm>
            <a:off x="2378160" y="762120"/>
            <a:ext cx="211284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43" descr=""/>
          <p:cNvPicPr/>
          <p:nvPr/>
        </p:nvPicPr>
        <p:blipFill>
          <a:blip r:embed="rId8"/>
          <a:stretch/>
        </p:blipFill>
        <p:spPr>
          <a:xfrm>
            <a:off x="4665600" y="685800"/>
            <a:ext cx="2327400" cy="1006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88"/>
          <p:cNvSpPr/>
          <p:nvPr/>
        </p:nvSpPr>
        <p:spPr>
          <a:xfrm>
            <a:off x="708660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89"/>
          <p:cNvSpPr/>
          <p:nvPr/>
        </p:nvSpPr>
        <p:spPr>
          <a:xfrm>
            <a:off x="0" y="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上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平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矩形 90"/>
          <p:cNvSpPr/>
          <p:nvPr/>
        </p:nvSpPr>
        <p:spPr>
          <a:xfrm>
            <a:off x="4534920" y="838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54"/>
          <p:cNvGrpSpPr/>
          <p:nvPr/>
        </p:nvGrpSpPr>
        <p:grpSpPr>
          <a:xfrm>
            <a:off x="838080" y="5703840"/>
            <a:ext cx="2254320" cy="1087920"/>
            <a:chOff x="838080" y="5703840"/>
            <a:chExt cx="2254320" cy="1087920"/>
          </a:xfrm>
        </p:grpSpPr>
        <p:sp>
          <p:nvSpPr>
            <p:cNvPr id="197" name="AutoShape 53"/>
            <p:cNvSpPr/>
            <p:nvPr/>
          </p:nvSpPr>
          <p:spPr>
            <a:xfrm>
              <a:off x="838080" y="5703840"/>
              <a:ext cx="22543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5"/>
            <p:cNvSpPr/>
            <p:nvPr/>
          </p:nvSpPr>
          <p:spPr>
            <a:xfrm>
              <a:off x="1815840" y="6246720"/>
              <a:ext cx="217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6"/>
            <p:cNvSpPr/>
            <p:nvPr/>
          </p:nvSpPr>
          <p:spPr>
            <a:xfrm>
              <a:off x="2840040" y="5985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7"/>
            <p:cNvSpPr/>
            <p:nvPr/>
          </p:nvSpPr>
          <p:spPr>
            <a:xfrm>
              <a:off x="1913400" y="6303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8"/>
            <p:cNvSpPr/>
            <p:nvPr/>
          </p:nvSpPr>
          <p:spPr>
            <a:xfrm>
              <a:off x="1906920" y="572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9"/>
            <p:cNvSpPr/>
            <p:nvPr/>
          </p:nvSpPr>
          <p:spPr>
            <a:xfrm>
              <a:off x="2372040" y="59529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60"/>
            <p:cNvSpPr/>
            <p:nvPr/>
          </p:nvSpPr>
          <p:spPr>
            <a:xfrm>
              <a:off x="2720160" y="5938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1"/>
            <p:cNvSpPr/>
            <p:nvPr/>
          </p:nvSpPr>
          <p:spPr>
            <a:xfrm>
              <a:off x="1702440" y="5938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62"/>
            <p:cNvSpPr/>
            <p:nvPr/>
          </p:nvSpPr>
          <p:spPr>
            <a:xfrm>
              <a:off x="1294560" y="59389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63"/>
            <p:cNvSpPr/>
            <p:nvPr/>
          </p:nvSpPr>
          <p:spPr>
            <a:xfrm>
              <a:off x="2195280" y="5985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4"/>
            <p:cNvSpPr/>
            <p:nvPr/>
          </p:nvSpPr>
          <p:spPr>
            <a:xfrm>
              <a:off x="1020600" y="59850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5638680" y="2971800"/>
            <a:ext cx="2254320" cy="1087920"/>
            <a:chOff x="5638680" y="2971800"/>
            <a:chExt cx="2254320" cy="1087920"/>
          </a:xfrm>
        </p:grpSpPr>
        <p:sp>
          <p:nvSpPr>
            <p:cNvPr id="209" name="AutoShape 66"/>
            <p:cNvSpPr/>
            <p:nvPr/>
          </p:nvSpPr>
          <p:spPr>
            <a:xfrm>
              <a:off x="5638680" y="2971800"/>
              <a:ext cx="22543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8"/>
            <p:cNvSpPr/>
            <p:nvPr/>
          </p:nvSpPr>
          <p:spPr>
            <a:xfrm>
              <a:off x="6616440" y="3514680"/>
              <a:ext cx="217800" cy="180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69"/>
            <p:cNvSpPr/>
            <p:nvPr/>
          </p:nvSpPr>
          <p:spPr>
            <a:xfrm>
              <a:off x="7646760" y="3252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70"/>
            <p:cNvSpPr/>
            <p:nvPr/>
          </p:nvSpPr>
          <p:spPr>
            <a:xfrm>
              <a:off x="6714000" y="3571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1"/>
            <p:cNvSpPr/>
            <p:nvPr/>
          </p:nvSpPr>
          <p:spPr>
            <a:xfrm>
              <a:off x="6707520" y="29973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72"/>
            <p:cNvSpPr/>
            <p:nvPr/>
          </p:nvSpPr>
          <p:spPr>
            <a:xfrm>
              <a:off x="7172640" y="3220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2</a:t>
              </a:r>
              <a:endParaRPr b="1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73"/>
            <p:cNvSpPr/>
            <p:nvPr/>
          </p:nvSpPr>
          <p:spPr>
            <a:xfrm>
              <a:off x="7469640" y="32068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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74"/>
            <p:cNvSpPr/>
            <p:nvPr/>
          </p:nvSpPr>
          <p:spPr>
            <a:xfrm>
              <a:off x="6503040" y="3206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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75"/>
            <p:cNvSpPr/>
            <p:nvPr/>
          </p:nvSpPr>
          <p:spPr>
            <a:xfrm>
              <a:off x="6095160" y="32068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6"/>
            <p:cNvSpPr/>
            <p:nvPr/>
          </p:nvSpPr>
          <p:spPr>
            <a:xfrm>
              <a:off x="6995880" y="3252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77"/>
            <p:cNvSpPr/>
            <p:nvPr/>
          </p:nvSpPr>
          <p:spPr>
            <a:xfrm>
              <a:off x="5821200" y="3252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"/>
                            </p:stCondLst>
                            <p:childTnLst>
                              <p:par>
                                <p:cTn id="15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0185 L 4.72222E-006 0.16597 E">
                                      <p:cBhvr>
                                        <p:cTn id="15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208 L 0.00017 -0.14907 E">
                                      <p:cBhvr>
                                        <p:cTn id="17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533520" y="1219320"/>
            <a:ext cx="8106120" cy="5637960"/>
            <a:chOff x="533520" y="1219320"/>
            <a:chExt cx="8106120" cy="5637960"/>
          </a:xfrm>
        </p:grpSpPr>
        <p:grpSp>
          <p:nvGrpSpPr>
            <p:cNvPr id="221" name="Group 3"/>
            <p:cNvGrpSpPr/>
            <p:nvPr/>
          </p:nvGrpSpPr>
          <p:grpSpPr>
            <a:xfrm>
              <a:off x="533520" y="1295640"/>
              <a:ext cx="7696080" cy="5561640"/>
              <a:chOff x="533520" y="1295640"/>
              <a:chExt cx="7696080" cy="5561640"/>
            </a:xfrm>
          </p:grpSpPr>
          <p:pic>
            <p:nvPicPr>
              <p:cNvPr id="222" name="Picture 4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533520" y="1295640"/>
                <a:ext cx="3719880" cy="32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icture 5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124880" y="1295640"/>
                <a:ext cx="4104360" cy="327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6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533520" y="4420440"/>
                <a:ext cx="3719880" cy="243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7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124880" y="4420440"/>
                <a:ext cx="4104360" cy="24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Line 8"/>
              <p:cNvSpPr/>
              <p:nvPr/>
            </p:nvSpPr>
            <p:spPr>
              <a:xfrm>
                <a:off x="533520" y="4465800"/>
                <a:ext cx="769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9"/>
              <p:cNvSpPr/>
              <p:nvPr/>
            </p:nvSpPr>
            <p:spPr>
              <a:xfrm flipV="1">
                <a:off x="4188960" y="1406160"/>
                <a:ext cx="0" cy="500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Text Box 10"/>
            <p:cNvSpPr/>
            <p:nvPr/>
          </p:nvSpPr>
          <p:spPr>
            <a:xfrm>
              <a:off x="3767760" y="4410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1"/>
            <p:cNvSpPr/>
            <p:nvPr/>
          </p:nvSpPr>
          <p:spPr>
            <a:xfrm>
              <a:off x="8254800" y="419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4239360" y="1219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446688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490500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535392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580284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6252120" y="4434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3825720" y="3912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9"/>
            <p:cNvSpPr/>
            <p:nvPr/>
          </p:nvSpPr>
          <p:spPr>
            <a:xfrm>
              <a:off x="3839040" y="3489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3839040" y="3099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3839040" y="271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3839040" y="232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162360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08980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253872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26"/>
            <p:cNvSpPr/>
            <p:nvPr/>
          </p:nvSpPr>
          <p:spPr>
            <a:xfrm>
              <a:off x="298800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3436560" y="4432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28"/>
            <p:cNvSpPr/>
            <p:nvPr/>
          </p:nvSpPr>
          <p:spPr>
            <a:xfrm>
              <a:off x="3693240" y="621216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29"/>
            <p:cNvSpPr/>
            <p:nvPr/>
          </p:nvSpPr>
          <p:spPr>
            <a:xfrm>
              <a:off x="3693240" y="582300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0"/>
            <p:cNvSpPr/>
            <p:nvPr/>
          </p:nvSpPr>
          <p:spPr>
            <a:xfrm>
              <a:off x="3693240" y="543348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1"/>
            <p:cNvSpPr/>
            <p:nvPr/>
          </p:nvSpPr>
          <p:spPr>
            <a:xfrm>
              <a:off x="3693240" y="504432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3693240" y="4655160"/>
              <a:ext cx="6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35"/>
          <p:cNvSpPr/>
          <p:nvPr/>
        </p:nvSpPr>
        <p:spPr>
          <a:xfrm flipV="1">
            <a:off x="1981080" y="4495680"/>
            <a:ext cx="4319640" cy="2849760"/>
          </a:xfrm>
          <a:custGeom>
            <a:avLst/>
            <a:gdLst/>
            <a:ahLst/>
            <a:rect l="l" t="t" r="r" b="b"/>
            <a:pathLst>
              <a:path w="1837" h="2922">
                <a:moveTo>
                  <a:pt x="0" y="18"/>
                </a:moveTo>
                <a:lnTo>
                  <a:pt x="6" y="60"/>
                </a:lnTo>
                <a:lnTo>
                  <a:pt x="12" y="102"/>
                </a:lnTo>
                <a:lnTo>
                  <a:pt x="24" y="144"/>
                </a:lnTo>
                <a:lnTo>
                  <a:pt x="30" y="186"/>
                </a:lnTo>
                <a:lnTo>
                  <a:pt x="36" y="228"/>
                </a:lnTo>
                <a:lnTo>
                  <a:pt x="42" y="270"/>
                </a:lnTo>
                <a:lnTo>
                  <a:pt x="48" y="312"/>
                </a:lnTo>
                <a:lnTo>
                  <a:pt x="54" y="354"/>
                </a:lnTo>
                <a:lnTo>
                  <a:pt x="60" y="396"/>
                </a:lnTo>
                <a:lnTo>
                  <a:pt x="72" y="432"/>
                </a:lnTo>
                <a:lnTo>
                  <a:pt x="78" y="474"/>
                </a:lnTo>
                <a:lnTo>
                  <a:pt x="84" y="516"/>
                </a:lnTo>
                <a:lnTo>
                  <a:pt x="90" y="552"/>
                </a:lnTo>
                <a:lnTo>
                  <a:pt x="96" y="594"/>
                </a:lnTo>
                <a:lnTo>
                  <a:pt x="102" y="630"/>
                </a:lnTo>
                <a:lnTo>
                  <a:pt x="108" y="672"/>
                </a:lnTo>
                <a:lnTo>
                  <a:pt x="120" y="708"/>
                </a:lnTo>
                <a:lnTo>
                  <a:pt x="126" y="744"/>
                </a:lnTo>
                <a:lnTo>
                  <a:pt x="132" y="780"/>
                </a:lnTo>
                <a:lnTo>
                  <a:pt x="138" y="822"/>
                </a:lnTo>
                <a:lnTo>
                  <a:pt x="144" y="858"/>
                </a:lnTo>
                <a:lnTo>
                  <a:pt x="150" y="894"/>
                </a:lnTo>
                <a:lnTo>
                  <a:pt x="156" y="930"/>
                </a:lnTo>
                <a:lnTo>
                  <a:pt x="168" y="966"/>
                </a:lnTo>
                <a:lnTo>
                  <a:pt x="174" y="1002"/>
                </a:lnTo>
                <a:lnTo>
                  <a:pt x="180" y="1038"/>
                </a:lnTo>
                <a:lnTo>
                  <a:pt x="186" y="1068"/>
                </a:lnTo>
                <a:lnTo>
                  <a:pt x="192" y="1104"/>
                </a:lnTo>
                <a:lnTo>
                  <a:pt x="198" y="1140"/>
                </a:lnTo>
                <a:lnTo>
                  <a:pt x="204" y="1170"/>
                </a:lnTo>
                <a:lnTo>
                  <a:pt x="216" y="1206"/>
                </a:lnTo>
                <a:lnTo>
                  <a:pt x="222" y="1242"/>
                </a:lnTo>
                <a:lnTo>
                  <a:pt x="228" y="1272"/>
                </a:lnTo>
                <a:lnTo>
                  <a:pt x="234" y="1302"/>
                </a:lnTo>
                <a:lnTo>
                  <a:pt x="240" y="1338"/>
                </a:lnTo>
                <a:lnTo>
                  <a:pt x="246" y="1368"/>
                </a:lnTo>
                <a:lnTo>
                  <a:pt x="252" y="1398"/>
                </a:lnTo>
                <a:lnTo>
                  <a:pt x="264" y="1434"/>
                </a:lnTo>
                <a:lnTo>
                  <a:pt x="270" y="1464"/>
                </a:lnTo>
                <a:lnTo>
                  <a:pt x="276" y="1494"/>
                </a:lnTo>
                <a:lnTo>
                  <a:pt x="282" y="1524"/>
                </a:lnTo>
                <a:lnTo>
                  <a:pt x="288" y="1554"/>
                </a:lnTo>
                <a:lnTo>
                  <a:pt x="294" y="1584"/>
                </a:lnTo>
                <a:lnTo>
                  <a:pt x="300" y="1614"/>
                </a:lnTo>
                <a:lnTo>
                  <a:pt x="312" y="1644"/>
                </a:lnTo>
                <a:lnTo>
                  <a:pt x="318" y="1668"/>
                </a:lnTo>
                <a:lnTo>
                  <a:pt x="324" y="1698"/>
                </a:lnTo>
                <a:lnTo>
                  <a:pt x="330" y="1728"/>
                </a:lnTo>
                <a:lnTo>
                  <a:pt x="336" y="1752"/>
                </a:lnTo>
                <a:lnTo>
                  <a:pt x="342" y="1782"/>
                </a:lnTo>
                <a:lnTo>
                  <a:pt x="348" y="1806"/>
                </a:lnTo>
                <a:lnTo>
                  <a:pt x="360" y="1836"/>
                </a:lnTo>
                <a:lnTo>
                  <a:pt x="366" y="1860"/>
                </a:lnTo>
                <a:lnTo>
                  <a:pt x="372" y="1890"/>
                </a:lnTo>
                <a:lnTo>
                  <a:pt x="378" y="1914"/>
                </a:lnTo>
                <a:lnTo>
                  <a:pt x="384" y="1938"/>
                </a:lnTo>
                <a:lnTo>
                  <a:pt x="390" y="1962"/>
                </a:lnTo>
                <a:lnTo>
                  <a:pt x="396" y="1986"/>
                </a:lnTo>
                <a:lnTo>
                  <a:pt x="408" y="2010"/>
                </a:lnTo>
                <a:lnTo>
                  <a:pt x="414" y="2040"/>
                </a:lnTo>
                <a:lnTo>
                  <a:pt x="420" y="2058"/>
                </a:lnTo>
                <a:lnTo>
                  <a:pt x="426" y="2082"/>
                </a:lnTo>
                <a:lnTo>
                  <a:pt x="432" y="2106"/>
                </a:lnTo>
                <a:lnTo>
                  <a:pt x="438" y="2130"/>
                </a:lnTo>
                <a:lnTo>
                  <a:pt x="444" y="2154"/>
                </a:lnTo>
                <a:lnTo>
                  <a:pt x="456" y="2172"/>
                </a:lnTo>
                <a:lnTo>
                  <a:pt x="462" y="2196"/>
                </a:lnTo>
                <a:lnTo>
                  <a:pt x="468" y="2220"/>
                </a:lnTo>
                <a:lnTo>
                  <a:pt x="474" y="2238"/>
                </a:lnTo>
                <a:lnTo>
                  <a:pt x="480" y="2262"/>
                </a:lnTo>
                <a:lnTo>
                  <a:pt x="486" y="2280"/>
                </a:lnTo>
                <a:lnTo>
                  <a:pt x="492" y="2304"/>
                </a:lnTo>
                <a:lnTo>
                  <a:pt x="504" y="2322"/>
                </a:lnTo>
                <a:lnTo>
                  <a:pt x="510" y="2340"/>
                </a:lnTo>
                <a:lnTo>
                  <a:pt x="516" y="2358"/>
                </a:lnTo>
                <a:lnTo>
                  <a:pt x="522" y="2376"/>
                </a:lnTo>
                <a:lnTo>
                  <a:pt x="528" y="2400"/>
                </a:lnTo>
                <a:lnTo>
                  <a:pt x="534" y="2418"/>
                </a:lnTo>
                <a:lnTo>
                  <a:pt x="540" y="2436"/>
                </a:lnTo>
                <a:lnTo>
                  <a:pt x="552" y="2454"/>
                </a:lnTo>
                <a:lnTo>
                  <a:pt x="558" y="2466"/>
                </a:lnTo>
                <a:lnTo>
                  <a:pt x="564" y="2484"/>
                </a:lnTo>
                <a:lnTo>
                  <a:pt x="570" y="2502"/>
                </a:lnTo>
                <a:lnTo>
                  <a:pt x="576" y="2520"/>
                </a:lnTo>
                <a:lnTo>
                  <a:pt x="582" y="2532"/>
                </a:lnTo>
                <a:lnTo>
                  <a:pt x="588" y="2550"/>
                </a:lnTo>
                <a:lnTo>
                  <a:pt x="600" y="2568"/>
                </a:lnTo>
                <a:lnTo>
                  <a:pt x="606" y="2580"/>
                </a:lnTo>
                <a:lnTo>
                  <a:pt x="612" y="2592"/>
                </a:lnTo>
                <a:lnTo>
                  <a:pt x="618" y="2610"/>
                </a:lnTo>
                <a:lnTo>
                  <a:pt x="624" y="2622"/>
                </a:lnTo>
                <a:lnTo>
                  <a:pt x="630" y="2640"/>
                </a:lnTo>
                <a:lnTo>
                  <a:pt x="636" y="2652"/>
                </a:lnTo>
                <a:lnTo>
                  <a:pt x="648" y="2664"/>
                </a:lnTo>
                <a:lnTo>
                  <a:pt x="654" y="2676"/>
                </a:lnTo>
                <a:lnTo>
                  <a:pt x="660" y="2688"/>
                </a:lnTo>
                <a:lnTo>
                  <a:pt x="666" y="2700"/>
                </a:lnTo>
                <a:lnTo>
                  <a:pt x="672" y="2712"/>
                </a:lnTo>
                <a:lnTo>
                  <a:pt x="678" y="2724"/>
                </a:lnTo>
                <a:lnTo>
                  <a:pt x="684" y="2736"/>
                </a:lnTo>
                <a:lnTo>
                  <a:pt x="696" y="2748"/>
                </a:lnTo>
                <a:lnTo>
                  <a:pt x="702" y="2754"/>
                </a:lnTo>
                <a:lnTo>
                  <a:pt x="708" y="2766"/>
                </a:lnTo>
                <a:lnTo>
                  <a:pt x="714" y="2778"/>
                </a:lnTo>
                <a:lnTo>
                  <a:pt x="720" y="2784"/>
                </a:lnTo>
                <a:lnTo>
                  <a:pt x="726" y="2796"/>
                </a:lnTo>
                <a:lnTo>
                  <a:pt x="732" y="2802"/>
                </a:lnTo>
                <a:lnTo>
                  <a:pt x="744" y="2814"/>
                </a:lnTo>
                <a:lnTo>
                  <a:pt x="750" y="2820"/>
                </a:lnTo>
                <a:lnTo>
                  <a:pt x="756" y="2826"/>
                </a:lnTo>
                <a:lnTo>
                  <a:pt x="762" y="2838"/>
                </a:lnTo>
                <a:lnTo>
                  <a:pt x="768" y="2844"/>
                </a:lnTo>
                <a:lnTo>
                  <a:pt x="774" y="2850"/>
                </a:lnTo>
                <a:lnTo>
                  <a:pt x="780" y="2856"/>
                </a:lnTo>
                <a:lnTo>
                  <a:pt x="792" y="2862"/>
                </a:lnTo>
                <a:lnTo>
                  <a:pt x="798" y="2868"/>
                </a:lnTo>
                <a:lnTo>
                  <a:pt x="804" y="2874"/>
                </a:lnTo>
                <a:lnTo>
                  <a:pt x="810" y="2880"/>
                </a:lnTo>
                <a:lnTo>
                  <a:pt x="816" y="2886"/>
                </a:lnTo>
                <a:lnTo>
                  <a:pt x="822" y="2892"/>
                </a:lnTo>
                <a:lnTo>
                  <a:pt x="828" y="2892"/>
                </a:lnTo>
                <a:lnTo>
                  <a:pt x="834" y="2898"/>
                </a:lnTo>
                <a:lnTo>
                  <a:pt x="846" y="2904"/>
                </a:lnTo>
                <a:lnTo>
                  <a:pt x="852" y="2904"/>
                </a:lnTo>
                <a:lnTo>
                  <a:pt x="858" y="2910"/>
                </a:lnTo>
                <a:lnTo>
                  <a:pt x="864" y="2910"/>
                </a:lnTo>
                <a:lnTo>
                  <a:pt x="870" y="2916"/>
                </a:lnTo>
                <a:lnTo>
                  <a:pt x="876" y="2916"/>
                </a:lnTo>
                <a:lnTo>
                  <a:pt x="882" y="2916"/>
                </a:lnTo>
                <a:lnTo>
                  <a:pt x="894" y="2916"/>
                </a:lnTo>
                <a:lnTo>
                  <a:pt x="900" y="2922"/>
                </a:lnTo>
                <a:lnTo>
                  <a:pt x="906" y="2922"/>
                </a:lnTo>
                <a:lnTo>
                  <a:pt x="912" y="2922"/>
                </a:lnTo>
                <a:lnTo>
                  <a:pt x="918" y="2922"/>
                </a:lnTo>
                <a:lnTo>
                  <a:pt x="925" y="2922"/>
                </a:lnTo>
                <a:lnTo>
                  <a:pt x="931" y="2922"/>
                </a:lnTo>
                <a:lnTo>
                  <a:pt x="943" y="2922"/>
                </a:lnTo>
                <a:lnTo>
                  <a:pt x="949" y="2916"/>
                </a:lnTo>
                <a:lnTo>
                  <a:pt x="955" y="2916"/>
                </a:lnTo>
                <a:lnTo>
                  <a:pt x="961" y="2916"/>
                </a:lnTo>
                <a:lnTo>
                  <a:pt x="967" y="2910"/>
                </a:lnTo>
                <a:lnTo>
                  <a:pt x="973" y="2910"/>
                </a:lnTo>
                <a:lnTo>
                  <a:pt x="979" y="2910"/>
                </a:lnTo>
                <a:lnTo>
                  <a:pt x="991" y="2904"/>
                </a:lnTo>
                <a:lnTo>
                  <a:pt x="997" y="2898"/>
                </a:lnTo>
                <a:lnTo>
                  <a:pt x="1003" y="2898"/>
                </a:lnTo>
                <a:lnTo>
                  <a:pt x="1009" y="2892"/>
                </a:lnTo>
                <a:lnTo>
                  <a:pt x="1015" y="2886"/>
                </a:lnTo>
                <a:lnTo>
                  <a:pt x="1021" y="2886"/>
                </a:lnTo>
                <a:lnTo>
                  <a:pt x="1027" y="2880"/>
                </a:lnTo>
                <a:lnTo>
                  <a:pt x="1039" y="2874"/>
                </a:lnTo>
                <a:lnTo>
                  <a:pt x="1045" y="2868"/>
                </a:lnTo>
                <a:lnTo>
                  <a:pt x="1051" y="2862"/>
                </a:lnTo>
                <a:lnTo>
                  <a:pt x="1057" y="2856"/>
                </a:lnTo>
                <a:lnTo>
                  <a:pt x="1063" y="2850"/>
                </a:lnTo>
                <a:lnTo>
                  <a:pt x="1069" y="2844"/>
                </a:lnTo>
                <a:lnTo>
                  <a:pt x="1075" y="2832"/>
                </a:lnTo>
                <a:lnTo>
                  <a:pt x="1087" y="2826"/>
                </a:lnTo>
                <a:lnTo>
                  <a:pt x="1093" y="2820"/>
                </a:lnTo>
                <a:lnTo>
                  <a:pt x="1099" y="2808"/>
                </a:lnTo>
                <a:lnTo>
                  <a:pt x="1105" y="2802"/>
                </a:lnTo>
                <a:lnTo>
                  <a:pt x="1111" y="2790"/>
                </a:lnTo>
                <a:lnTo>
                  <a:pt x="1117" y="2784"/>
                </a:lnTo>
                <a:lnTo>
                  <a:pt x="1123" y="2772"/>
                </a:lnTo>
                <a:lnTo>
                  <a:pt x="1135" y="2766"/>
                </a:lnTo>
                <a:lnTo>
                  <a:pt x="1141" y="2754"/>
                </a:lnTo>
                <a:lnTo>
                  <a:pt x="1147" y="2742"/>
                </a:lnTo>
                <a:lnTo>
                  <a:pt x="1153" y="2730"/>
                </a:lnTo>
                <a:lnTo>
                  <a:pt x="1159" y="2718"/>
                </a:lnTo>
                <a:lnTo>
                  <a:pt x="1165" y="2706"/>
                </a:lnTo>
                <a:lnTo>
                  <a:pt x="1171" y="2694"/>
                </a:lnTo>
                <a:lnTo>
                  <a:pt x="1183" y="2682"/>
                </a:lnTo>
                <a:lnTo>
                  <a:pt x="1189" y="2670"/>
                </a:lnTo>
                <a:lnTo>
                  <a:pt x="1195" y="2658"/>
                </a:lnTo>
                <a:lnTo>
                  <a:pt x="1201" y="2646"/>
                </a:lnTo>
                <a:lnTo>
                  <a:pt x="1207" y="2634"/>
                </a:lnTo>
                <a:lnTo>
                  <a:pt x="1213" y="2616"/>
                </a:lnTo>
                <a:lnTo>
                  <a:pt x="1219" y="2604"/>
                </a:lnTo>
                <a:lnTo>
                  <a:pt x="1231" y="2592"/>
                </a:lnTo>
                <a:lnTo>
                  <a:pt x="1237" y="2574"/>
                </a:lnTo>
                <a:lnTo>
                  <a:pt x="1243" y="2562"/>
                </a:lnTo>
                <a:lnTo>
                  <a:pt x="1249" y="2544"/>
                </a:lnTo>
                <a:lnTo>
                  <a:pt x="1255" y="2526"/>
                </a:lnTo>
                <a:lnTo>
                  <a:pt x="1261" y="2514"/>
                </a:lnTo>
                <a:lnTo>
                  <a:pt x="1267" y="2496"/>
                </a:lnTo>
                <a:lnTo>
                  <a:pt x="1279" y="2478"/>
                </a:lnTo>
                <a:lnTo>
                  <a:pt x="1285" y="2460"/>
                </a:lnTo>
                <a:lnTo>
                  <a:pt x="1291" y="2442"/>
                </a:lnTo>
                <a:lnTo>
                  <a:pt x="1297" y="2430"/>
                </a:lnTo>
                <a:lnTo>
                  <a:pt x="1303" y="2412"/>
                </a:lnTo>
                <a:lnTo>
                  <a:pt x="1309" y="2388"/>
                </a:lnTo>
                <a:lnTo>
                  <a:pt x="1315" y="2370"/>
                </a:lnTo>
                <a:lnTo>
                  <a:pt x="1327" y="2352"/>
                </a:lnTo>
                <a:lnTo>
                  <a:pt x="1333" y="2334"/>
                </a:lnTo>
                <a:lnTo>
                  <a:pt x="1339" y="2316"/>
                </a:lnTo>
                <a:lnTo>
                  <a:pt x="1345" y="2292"/>
                </a:lnTo>
                <a:lnTo>
                  <a:pt x="1351" y="2274"/>
                </a:lnTo>
                <a:lnTo>
                  <a:pt x="1357" y="2250"/>
                </a:lnTo>
                <a:lnTo>
                  <a:pt x="1363" y="2232"/>
                </a:lnTo>
                <a:lnTo>
                  <a:pt x="1375" y="2208"/>
                </a:lnTo>
                <a:lnTo>
                  <a:pt x="1381" y="2190"/>
                </a:lnTo>
                <a:lnTo>
                  <a:pt x="1387" y="2166"/>
                </a:lnTo>
                <a:lnTo>
                  <a:pt x="1393" y="2142"/>
                </a:lnTo>
                <a:lnTo>
                  <a:pt x="1399" y="2124"/>
                </a:lnTo>
                <a:lnTo>
                  <a:pt x="1405" y="2100"/>
                </a:lnTo>
                <a:lnTo>
                  <a:pt x="1411" y="2076"/>
                </a:lnTo>
                <a:lnTo>
                  <a:pt x="1423" y="2052"/>
                </a:lnTo>
                <a:lnTo>
                  <a:pt x="1429" y="2028"/>
                </a:lnTo>
                <a:lnTo>
                  <a:pt x="1435" y="2004"/>
                </a:lnTo>
                <a:lnTo>
                  <a:pt x="1441" y="1980"/>
                </a:lnTo>
                <a:lnTo>
                  <a:pt x="1447" y="1956"/>
                </a:lnTo>
                <a:lnTo>
                  <a:pt x="1453" y="1932"/>
                </a:lnTo>
                <a:lnTo>
                  <a:pt x="1459" y="1902"/>
                </a:lnTo>
                <a:lnTo>
                  <a:pt x="1471" y="1878"/>
                </a:lnTo>
                <a:lnTo>
                  <a:pt x="1477" y="1854"/>
                </a:lnTo>
                <a:lnTo>
                  <a:pt x="1483" y="1824"/>
                </a:lnTo>
                <a:lnTo>
                  <a:pt x="1489" y="1800"/>
                </a:lnTo>
                <a:lnTo>
                  <a:pt x="1495" y="1770"/>
                </a:lnTo>
                <a:lnTo>
                  <a:pt x="1501" y="1746"/>
                </a:lnTo>
                <a:lnTo>
                  <a:pt x="1507" y="1716"/>
                </a:lnTo>
                <a:lnTo>
                  <a:pt x="1519" y="1686"/>
                </a:lnTo>
                <a:lnTo>
                  <a:pt x="1525" y="1662"/>
                </a:lnTo>
                <a:lnTo>
                  <a:pt x="1531" y="1632"/>
                </a:lnTo>
                <a:lnTo>
                  <a:pt x="1537" y="1602"/>
                </a:lnTo>
                <a:lnTo>
                  <a:pt x="1543" y="1572"/>
                </a:lnTo>
                <a:lnTo>
                  <a:pt x="1549" y="1542"/>
                </a:lnTo>
                <a:lnTo>
                  <a:pt x="1555" y="1512"/>
                </a:lnTo>
                <a:lnTo>
                  <a:pt x="1567" y="1482"/>
                </a:lnTo>
                <a:lnTo>
                  <a:pt x="1573" y="1452"/>
                </a:lnTo>
                <a:lnTo>
                  <a:pt x="1579" y="1422"/>
                </a:lnTo>
                <a:lnTo>
                  <a:pt x="1585" y="1392"/>
                </a:lnTo>
                <a:lnTo>
                  <a:pt x="1591" y="1356"/>
                </a:lnTo>
                <a:lnTo>
                  <a:pt x="1597" y="1326"/>
                </a:lnTo>
                <a:lnTo>
                  <a:pt x="1603" y="1296"/>
                </a:lnTo>
                <a:lnTo>
                  <a:pt x="1615" y="1260"/>
                </a:lnTo>
                <a:lnTo>
                  <a:pt x="1621" y="1230"/>
                </a:lnTo>
                <a:lnTo>
                  <a:pt x="1627" y="1194"/>
                </a:lnTo>
                <a:lnTo>
                  <a:pt x="1633" y="1158"/>
                </a:lnTo>
                <a:lnTo>
                  <a:pt x="1639" y="1128"/>
                </a:lnTo>
                <a:lnTo>
                  <a:pt x="1645" y="1092"/>
                </a:lnTo>
                <a:lnTo>
                  <a:pt x="1651" y="1056"/>
                </a:lnTo>
                <a:lnTo>
                  <a:pt x="1663" y="1026"/>
                </a:lnTo>
                <a:lnTo>
                  <a:pt x="1669" y="990"/>
                </a:lnTo>
                <a:lnTo>
                  <a:pt x="1675" y="954"/>
                </a:lnTo>
                <a:lnTo>
                  <a:pt x="1681" y="918"/>
                </a:lnTo>
                <a:lnTo>
                  <a:pt x="1687" y="882"/>
                </a:lnTo>
                <a:lnTo>
                  <a:pt x="1693" y="846"/>
                </a:lnTo>
                <a:lnTo>
                  <a:pt x="1699" y="804"/>
                </a:lnTo>
                <a:lnTo>
                  <a:pt x="1711" y="768"/>
                </a:lnTo>
                <a:lnTo>
                  <a:pt x="1717" y="732"/>
                </a:lnTo>
                <a:lnTo>
                  <a:pt x="1723" y="696"/>
                </a:lnTo>
                <a:lnTo>
                  <a:pt x="1729" y="654"/>
                </a:lnTo>
                <a:lnTo>
                  <a:pt x="1735" y="618"/>
                </a:lnTo>
                <a:lnTo>
                  <a:pt x="1741" y="576"/>
                </a:lnTo>
                <a:lnTo>
                  <a:pt x="1747" y="540"/>
                </a:lnTo>
                <a:lnTo>
                  <a:pt x="1759" y="498"/>
                </a:lnTo>
                <a:lnTo>
                  <a:pt x="1765" y="462"/>
                </a:lnTo>
                <a:lnTo>
                  <a:pt x="1771" y="420"/>
                </a:lnTo>
                <a:lnTo>
                  <a:pt x="1777" y="378"/>
                </a:lnTo>
                <a:lnTo>
                  <a:pt x="1783" y="342"/>
                </a:lnTo>
                <a:lnTo>
                  <a:pt x="1789" y="300"/>
                </a:lnTo>
                <a:lnTo>
                  <a:pt x="1795" y="258"/>
                </a:lnTo>
                <a:lnTo>
                  <a:pt x="1807" y="216"/>
                </a:lnTo>
                <a:lnTo>
                  <a:pt x="1813" y="174"/>
                </a:lnTo>
                <a:lnTo>
                  <a:pt x="1819" y="132"/>
                </a:lnTo>
                <a:lnTo>
                  <a:pt x="1825" y="90"/>
                </a:lnTo>
                <a:lnTo>
                  <a:pt x="1831" y="42"/>
                </a:lnTo>
                <a:lnTo>
                  <a:pt x="1837" y="0"/>
                </a:lnTo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Object 36" descr=""/>
          <p:cNvPicPr/>
          <p:nvPr/>
        </p:nvPicPr>
        <p:blipFill>
          <a:blip r:embed="rId5"/>
          <a:stretch/>
        </p:blipFill>
        <p:spPr>
          <a:xfrm>
            <a:off x="6443640" y="5497560"/>
            <a:ext cx="1657440" cy="102708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7" descr=""/>
          <p:cNvPicPr/>
          <p:nvPr/>
        </p:nvPicPr>
        <p:blipFill>
          <a:blip r:embed="rId6"/>
          <a:stretch/>
        </p:blipFill>
        <p:spPr>
          <a:xfrm>
            <a:off x="6691320" y="4648320"/>
            <a:ext cx="2452680" cy="102708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38" descr=""/>
          <p:cNvPicPr/>
          <p:nvPr/>
        </p:nvPicPr>
        <p:blipFill>
          <a:blip r:embed="rId7"/>
          <a:stretch/>
        </p:blipFill>
        <p:spPr>
          <a:xfrm>
            <a:off x="-225360" y="4572000"/>
            <a:ext cx="2449440" cy="10270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43"/>
          <p:cNvGrpSpPr/>
          <p:nvPr/>
        </p:nvGrpSpPr>
        <p:grpSpPr>
          <a:xfrm>
            <a:off x="1981080" y="3048120"/>
            <a:ext cx="4319640" cy="4289040"/>
            <a:chOff x="1981080" y="3048120"/>
            <a:chExt cx="4319640" cy="4289040"/>
          </a:xfrm>
        </p:grpSpPr>
        <p:sp>
          <p:nvSpPr>
            <p:cNvPr id="256" name="Freeform 44"/>
            <p:cNvSpPr/>
            <p:nvPr/>
          </p:nvSpPr>
          <p:spPr>
            <a:xfrm flipV="1">
              <a:off x="1981080" y="4487400"/>
              <a:ext cx="4319640" cy="2849400"/>
            </a:xfrm>
            <a:custGeom>
              <a:avLst/>
              <a:gdLst/>
              <a:ahLst/>
              <a:rect l="l" t="t" r="r" b="b"/>
              <a:pathLst>
                <a:path w="1837" h="2922">
                  <a:moveTo>
                    <a:pt x="0" y="18"/>
                  </a:moveTo>
                  <a:lnTo>
                    <a:pt x="6" y="60"/>
                  </a:lnTo>
                  <a:lnTo>
                    <a:pt x="12" y="102"/>
                  </a:lnTo>
                  <a:lnTo>
                    <a:pt x="24" y="144"/>
                  </a:lnTo>
                  <a:lnTo>
                    <a:pt x="30" y="186"/>
                  </a:lnTo>
                  <a:lnTo>
                    <a:pt x="36" y="228"/>
                  </a:lnTo>
                  <a:lnTo>
                    <a:pt x="42" y="270"/>
                  </a:lnTo>
                  <a:lnTo>
                    <a:pt x="48" y="312"/>
                  </a:lnTo>
                  <a:lnTo>
                    <a:pt x="54" y="354"/>
                  </a:lnTo>
                  <a:lnTo>
                    <a:pt x="60" y="396"/>
                  </a:lnTo>
                  <a:lnTo>
                    <a:pt x="72" y="432"/>
                  </a:lnTo>
                  <a:lnTo>
                    <a:pt x="78" y="474"/>
                  </a:lnTo>
                  <a:lnTo>
                    <a:pt x="84" y="516"/>
                  </a:lnTo>
                  <a:lnTo>
                    <a:pt x="90" y="552"/>
                  </a:lnTo>
                  <a:lnTo>
                    <a:pt x="96" y="594"/>
                  </a:lnTo>
                  <a:lnTo>
                    <a:pt x="102" y="630"/>
                  </a:lnTo>
                  <a:lnTo>
                    <a:pt x="108" y="672"/>
                  </a:lnTo>
                  <a:lnTo>
                    <a:pt x="120" y="708"/>
                  </a:lnTo>
                  <a:lnTo>
                    <a:pt x="126" y="744"/>
                  </a:lnTo>
                  <a:lnTo>
                    <a:pt x="132" y="780"/>
                  </a:lnTo>
                  <a:lnTo>
                    <a:pt x="138" y="822"/>
                  </a:lnTo>
                  <a:lnTo>
                    <a:pt x="144" y="858"/>
                  </a:lnTo>
                  <a:lnTo>
                    <a:pt x="150" y="894"/>
                  </a:lnTo>
                  <a:lnTo>
                    <a:pt x="156" y="930"/>
                  </a:lnTo>
                  <a:lnTo>
                    <a:pt x="168" y="966"/>
                  </a:lnTo>
                  <a:lnTo>
                    <a:pt x="174" y="1002"/>
                  </a:lnTo>
                  <a:lnTo>
                    <a:pt x="180" y="1038"/>
                  </a:lnTo>
                  <a:lnTo>
                    <a:pt x="186" y="1068"/>
                  </a:lnTo>
                  <a:lnTo>
                    <a:pt x="192" y="1104"/>
                  </a:lnTo>
                  <a:lnTo>
                    <a:pt x="198" y="1140"/>
                  </a:lnTo>
                  <a:lnTo>
                    <a:pt x="204" y="1170"/>
                  </a:lnTo>
                  <a:lnTo>
                    <a:pt x="216" y="1206"/>
                  </a:lnTo>
                  <a:lnTo>
                    <a:pt x="222" y="1242"/>
                  </a:lnTo>
                  <a:lnTo>
                    <a:pt x="228" y="1272"/>
                  </a:lnTo>
                  <a:lnTo>
                    <a:pt x="234" y="1302"/>
                  </a:lnTo>
                  <a:lnTo>
                    <a:pt x="240" y="1338"/>
                  </a:lnTo>
                  <a:lnTo>
                    <a:pt x="246" y="1368"/>
                  </a:lnTo>
                  <a:lnTo>
                    <a:pt x="252" y="1398"/>
                  </a:lnTo>
                  <a:lnTo>
                    <a:pt x="264" y="1434"/>
                  </a:lnTo>
                  <a:lnTo>
                    <a:pt x="270" y="1464"/>
                  </a:lnTo>
                  <a:lnTo>
                    <a:pt x="276" y="1494"/>
                  </a:lnTo>
                  <a:lnTo>
                    <a:pt x="282" y="1524"/>
                  </a:lnTo>
                  <a:lnTo>
                    <a:pt x="288" y="1554"/>
                  </a:lnTo>
                  <a:lnTo>
                    <a:pt x="294" y="1584"/>
                  </a:lnTo>
                  <a:lnTo>
                    <a:pt x="300" y="1614"/>
                  </a:lnTo>
                  <a:lnTo>
                    <a:pt x="312" y="1644"/>
                  </a:lnTo>
                  <a:lnTo>
                    <a:pt x="318" y="1668"/>
                  </a:lnTo>
                  <a:lnTo>
                    <a:pt x="324" y="1698"/>
                  </a:lnTo>
                  <a:lnTo>
                    <a:pt x="330" y="1728"/>
                  </a:lnTo>
                  <a:lnTo>
                    <a:pt x="336" y="1752"/>
                  </a:lnTo>
                  <a:lnTo>
                    <a:pt x="342" y="1782"/>
                  </a:lnTo>
                  <a:lnTo>
                    <a:pt x="348" y="1806"/>
                  </a:lnTo>
                  <a:lnTo>
                    <a:pt x="360" y="1836"/>
                  </a:lnTo>
                  <a:lnTo>
                    <a:pt x="366" y="1860"/>
                  </a:lnTo>
                  <a:lnTo>
                    <a:pt x="372" y="1890"/>
                  </a:lnTo>
                  <a:lnTo>
                    <a:pt x="378" y="1914"/>
                  </a:lnTo>
                  <a:lnTo>
                    <a:pt x="384" y="1938"/>
                  </a:lnTo>
                  <a:lnTo>
                    <a:pt x="390" y="1962"/>
                  </a:lnTo>
                  <a:lnTo>
                    <a:pt x="396" y="1986"/>
                  </a:lnTo>
                  <a:lnTo>
                    <a:pt x="408" y="2010"/>
                  </a:lnTo>
                  <a:lnTo>
                    <a:pt x="414" y="2040"/>
                  </a:lnTo>
                  <a:lnTo>
                    <a:pt x="420" y="2058"/>
                  </a:lnTo>
                  <a:lnTo>
                    <a:pt x="426" y="2082"/>
                  </a:lnTo>
                  <a:lnTo>
                    <a:pt x="432" y="2106"/>
                  </a:lnTo>
                  <a:lnTo>
                    <a:pt x="438" y="2130"/>
                  </a:lnTo>
                  <a:lnTo>
                    <a:pt x="444" y="2154"/>
                  </a:lnTo>
                  <a:lnTo>
                    <a:pt x="456" y="2172"/>
                  </a:lnTo>
                  <a:lnTo>
                    <a:pt x="462" y="2196"/>
                  </a:lnTo>
                  <a:lnTo>
                    <a:pt x="468" y="2220"/>
                  </a:lnTo>
                  <a:lnTo>
                    <a:pt x="474" y="2238"/>
                  </a:lnTo>
                  <a:lnTo>
                    <a:pt x="480" y="2262"/>
                  </a:lnTo>
                  <a:lnTo>
                    <a:pt x="486" y="2280"/>
                  </a:lnTo>
                  <a:lnTo>
                    <a:pt x="492" y="2304"/>
                  </a:lnTo>
                  <a:lnTo>
                    <a:pt x="504" y="2322"/>
                  </a:lnTo>
                  <a:lnTo>
                    <a:pt x="510" y="2340"/>
                  </a:lnTo>
                  <a:lnTo>
                    <a:pt x="516" y="2358"/>
                  </a:lnTo>
                  <a:lnTo>
                    <a:pt x="522" y="2376"/>
                  </a:lnTo>
                  <a:lnTo>
                    <a:pt x="528" y="2400"/>
                  </a:lnTo>
                  <a:lnTo>
                    <a:pt x="534" y="2418"/>
                  </a:lnTo>
                  <a:lnTo>
                    <a:pt x="540" y="2436"/>
                  </a:lnTo>
                  <a:lnTo>
                    <a:pt x="552" y="2454"/>
                  </a:lnTo>
                  <a:lnTo>
                    <a:pt x="558" y="2466"/>
                  </a:lnTo>
                  <a:lnTo>
                    <a:pt x="564" y="2484"/>
                  </a:lnTo>
                  <a:lnTo>
                    <a:pt x="570" y="2502"/>
                  </a:lnTo>
                  <a:lnTo>
                    <a:pt x="576" y="2520"/>
                  </a:lnTo>
                  <a:lnTo>
                    <a:pt x="582" y="2532"/>
                  </a:lnTo>
                  <a:lnTo>
                    <a:pt x="588" y="2550"/>
                  </a:lnTo>
                  <a:lnTo>
                    <a:pt x="600" y="2568"/>
                  </a:lnTo>
                  <a:lnTo>
                    <a:pt x="606" y="2580"/>
                  </a:lnTo>
                  <a:lnTo>
                    <a:pt x="612" y="2592"/>
                  </a:lnTo>
                  <a:lnTo>
                    <a:pt x="618" y="2610"/>
                  </a:lnTo>
                  <a:lnTo>
                    <a:pt x="624" y="2622"/>
                  </a:lnTo>
                  <a:lnTo>
                    <a:pt x="630" y="2640"/>
                  </a:lnTo>
                  <a:lnTo>
                    <a:pt x="636" y="2652"/>
                  </a:lnTo>
                  <a:lnTo>
                    <a:pt x="648" y="2664"/>
                  </a:lnTo>
                  <a:lnTo>
                    <a:pt x="654" y="2676"/>
                  </a:lnTo>
                  <a:lnTo>
                    <a:pt x="660" y="2688"/>
                  </a:lnTo>
                  <a:lnTo>
                    <a:pt x="666" y="2700"/>
                  </a:lnTo>
                  <a:lnTo>
                    <a:pt x="672" y="2712"/>
                  </a:lnTo>
                  <a:lnTo>
                    <a:pt x="678" y="2724"/>
                  </a:lnTo>
                  <a:lnTo>
                    <a:pt x="684" y="2736"/>
                  </a:lnTo>
                  <a:lnTo>
                    <a:pt x="696" y="2748"/>
                  </a:lnTo>
                  <a:lnTo>
                    <a:pt x="702" y="2754"/>
                  </a:lnTo>
                  <a:lnTo>
                    <a:pt x="708" y="2766"/>
                  </a:lnTo>
                  <a:lnTo>
                    <a:pt x="714" y="2778"/>
                  </a:lnTo>
                  <a:lnTo>
                    <a:pt x="720" y="2784"/>
                  </a:lnTo>
                  <a:lnTo>
                    <a:pt x="726" y="2796"/>
                  </a:lnTo>
                  <a:lnTo>
                    <a:pt x="732" y="2802"/>
                  </a:lnTo>
                  <a:lnTo>
                    <a:pt x="744" y="2814"/>
                  </a:lnTo>
                  <a:lnTo>
                    <a:pt x="750" y="2820"/>
                  </a:lnTo>
                  <a:lnTo>
                    <a:pt x="756" y="2826"/>
                  </a:lnTo>
                  <a:lnTo>
                    <a:pt x="762" y="2838"/>
                  </a:lnTo>
                  <a:lnTo>
                    <a:pt x="768" y="2844"/>
                  </a:lnTo>
                  <a:lnTo>
                    <a:pt x="774" y="2850"/>
                  </a:lnTo>
                  <a:lnTo>
                    <a:pt x="780" y="2856"/>
                  </a:lnTo>
                  <a:lnTo>
                    <a:pt x="792" y="2862"/>
                  </a:lnTo>
                  <a:lnTo>
                    <a:pt x="798" y="2868"/>
                  </a:lnTo>
                  <a:lnTo>
                    <a:pt x="804" y="2874"/>
                  </a:lnTo>
                  <a:lnTo>
                    <a:pt x="810" y="2880"/>
                  </a:lnTo>
                  <a:lnTo>
                    <a:pt x="816" y="2886"/>
                  </a:lnTo>
                  <a:lnTo>
                    <a:pt x="822" y="2892"/>
                  </a:lnTo>
                  <a:lnTo>
                    <a:pt x="828" y="2892"/>
                  </a:lnTo>
                  <a:lnTo>
                    <a:pt x="834" y="2898"/>
                  </a:lnTo>
                  <a:lnTo>
                    <a:pt x="846" y="2904"/>
                  </a:lnTo>
                  <a:lnTo>
                    <a:pt x="852" y="2904"/>
                  </a:lnTo>
                  <a:lnTo>
                    <a:pt x="858" y="2910"/>
                  </a:lnTo>
                  <a:lnTo>
                    <a:pt x="864" y="2910"/>
                  </a:lnTo>
                  <a:lnTo>
                    <a:pt x="870" y="2916"/>
                  </a:lnTo>
                  <a:lnTo>
                    <a:pt x="876" y="2916"/>
                  </a:lnTo>
                  <a:lnTo>
                    <a:pt x="882" y="2916"/>
                  </a:lnTo>
                  <a:lnTo>
                    <a:pt x="894" y="2916"/>
                  </a:lnTo>
                  <a:lnTo>
                    <a:pt x="900" y="2922"/>
                  </a:lnTo>
                  <a:lnTo>
                    <a:pt x="906" y="2922"/>
                  </a:lnTo>
                  <a:lnTo>
                    <a:pt x="912" y="2922"/>
                  </a:lnTo>
                  <a:lnTo>
                    <a:pt x="918" y="2922"/>
                  </a:lnTo>
                  <a:lnTo>
                    <a:pt x="925" y="2922"/>
                  </a:lnTo>
                  <a:lnTo>
                    <a:pt x="931" y="2922"/>
                  </a:lnTo>
                  <a:lnTo>
                    <a:pt x="943" y="2922"/>
                  </a:lnTo>
                  <a:lnTo>
                    <a:pt x="949" y="2916"/>
                  </a:lnTo>
                  <a:lnTo>
                    <a:pt x="955" y="2916"/>
                  </a:lnTo>
                  <a:lnTo>
                    <a:pt x="961" y="2916"/>
                  </a:lnTo>
                  <a:lnTo>
                    <a:pt x="967" y="2910"/>
                  </a:lnTo>
                  <a:lnTo>
                    <a:pt x="973" y="2910"/>
                  </a:lnTo>
                  <a:lnTo>
                    <a:pt x="979" y="2910"/>
                  </a:lnTo>
                  <a:lnTo>
                    <a:pt x="991" y="2904"/>
                  </a:lnTo>
                  <a:lnTo>
                    <a:pt x="997" y="2898"/>
                  </a:lnTo>
                  <a:lnTo>
                    <a:pt x="1003" y="2898"/>
                  </a:lnTo>
                  <a:lnTo>
                    <a:pt x="1009" y="2892"/>
                  </a:lnTo>
                  <a:lnTo>
                    <a:pt x="1015" y="2886"/>
                  </a:lnTo>
                  <a:lnTo>
                    <a:pt x="1021" y="2886"/>
                  </a:lnTo>
                  <a:lnTo>
                    <a:pt x="1027" y="2880"/>
                  </a:lnTo>
                  <a:lnTo>
                    <a:pt x="1039" y="2874"/>
                  </a:lnTo>
                  <a:lnTo>
                    <a:pt x="1045" y="2868"/>
                  </a:lnTo>
                  <a:lnTo>
                    <a:pt x="1051" y="2862"/>
                  </a:lnTo>
                  <a:lnTo>
                    <a:pt x="1057" y="2856"/>
                  </a:lnTo>
                  <a:lnTo>
                    <a:pt x="1063" y="2850"/>
                  </a:lnTo>
                  <a:lnTo>
                    <a:pt x="1069" y="2844"/>
                  </a:lnTo>
                  <a:lnTo>
                    <a:pt x="1075" y="2832"/>
                  </a:lnTo>
                  <a:lnTo>
                    <a:pt x="1087" y="2826"/>
                  </a:lnTo>
                  <a:lnTo>
                    <a:pt x="1093" y="2820"/>
                  </a:lnTo>
                  <a:lnTo>
                    <a:pt x="1099" y="2808"/>
                  </a:lnTo>
                  <a:lnTo>
                    <a:pt x="1105" y="2802"/>
                  </a:lnTo>
                  <a:lnTo>
                    <a:pt x="1111" y="2790"/>
                  </a:lnTo>
                  <a:lnTo>
                    <a:pt x="1117" y="2784"/>
                  </a:lnTo>
                  <a:lnTo>
                    <a:pt x="1123" y="2772"/>
                  </a:lnTo>
                  <a:lnTo>
                    <a:pt x="1135" y="2766"/>
                  </a:lnTo>
                  <a:lnTo>
                    <a:pt x="1141" y="2754"/>
                  </a:lnTo>
                  <a:lnTo>
                    <a:pt x="1147" y="2742"/>
                  </a:lnTo>
                  <a:lnTo>
                    <a:pt x="1153" y="2730"/>
                  </a:lnTo>
                  <a:lnTo>
                    <a:pt x="1159" y="2718"/>
                  </a:lnTo>
                  <a:lnTo>
                    <a:pt x="1165" y="2706"/>
                  </a:lnTo>
                  <a:lnTo>
                    <a:pt x="1171" y="2694"/>
                  </a:lnTo>
                  <a:lnTo>
                    <a:pt x="1183" y="2682"/>
                  </a:lnTo>
                  <a:lnTo>
                    <a:pt x="1189" y="2670"/>
                  </a:lnTo>
                  <a:lnTo>
                    <a:pt x="1195" y="2658"/>
                  </a:lnTo>
                  <a:lnTo>
                    <a:pt x="1201" y="2646"/>
                  </a:lnTo>
                  <a:lnTo>
                    <a:pt x="1207" y="2634"/>
                  </a:lnTo>
                  <a:lnTo>
                    <a:pt x="1213" y="2616"/>
                  </a:lnTo>
                  <a:lnTo>
                    <a:pt x="1219" y="2604"/>
                  </a:lnTo>
                  <a:lnTo>
                    <a:pt x="1231" y="2592"/>
                  </a:lnTo>
                  <a:lnTo>
                    <a:pt x="1237" y="2574"/>
                  </a:lnTo>
                  <a:lnTo>
                    <a:pt x="1243" y="2562"/>
                  </a:lnTo>
                  <a:lnTo>
                    <a:pt x="1249" y="2544"/>
                  </a:lnTo>
                  <a:lnTo>
                    <a:pt x="1255" y="2526"/>
                  </a:lnTo>
                  <a:lnTo>
                    <a:pt x="1261" y="2514"/>
                  </a:lnTo>
                  <a:lnTo>
                    <a:pt x="1267" y="2496"/>
                  </a:lnTo>
                  <a:lnTo>
                    <a:pt x="1279" y="2478"/>
                  </a:lnTo>
                  <a:lnTo>
                    <a:pt x="1285" y="2460"/>
                  </a:lnTo>
                  <a:lnTo>
                    <a:pt x="1291" y="2442"/>
                  </a:lnTo>
                  <a:lnTo>
                    <a:pt x="1297" y="2430"/>
                  </a:lnTo>
                  <a:lnTo>
                    <a:pt x="1303" y="2412"/>
                  </a:lnTo>
                  <a:lnTo>
                    <a:pt x="1309" y="2388"/>
                  </a:lnTo>
                  <a:lnTo>
                    <a:pt x="1315" y="2370"/>
                  </a:lnTo>
                  <a:lnTo>
                    <a:pt x="1327" y="2352"/>
                  </a:lnTo>
                  <a:lnTo>
                    <a:pt x="1333" y="2334"/>
                  </a:lnTo>
                  <a:lnTo>
                    <a:pt x="1339" y="2316"/>
                  </a:lnTo>
                  <a:lnTo>
                    <a:pt x="1345" y="2292"/>
                  </a:lnTo>
                  <a:lnTo>
                    <a:pt x="1351" y="2274"/>
                  </a:lnTo>
                  <a:lnTo>
                    <a:pt x="1357" y="2250"/>
                  </a:lnTo>
                  <a:lnTo>
                    <a:pt x="1363" y="2232"/>
                  </a:lnTo>
                  <a:lnTo>
                    <a:pt x="1375" y="2208"/>
                  </a:lnTo>
                  <a:lnTo>
                    <a:pt x="1381" y="2190"/>
                  </a:lnTo>
                  <a:lnTo>
                    <a:pt x="1387" y="2166"/>
                  </a:lnTo>
                  <a:lnTo>
                    <a:pt x="1393" y="2142"/>
                  </a:lnTo>
                  <a:lnTo>
                    <a:pt x="1399" y="2124"/>
                  </a:lnTo>
                  <a:lnTo>
                    <a:pt x="1405" y="2100"/>
                  </a:lnTo>
                  <a:lnTo>
                    <a:pt x="1411" y="2076"/>
                  </a:lnTo>
                  <a:lnTo>
                    <a:pt x="1423" y="2052"/>
                  </a:lnTo>
                  <a:lnTo>
                    <a:pt x="1429" y="2028"/>
                  </a:lnTo>
                  <a:lnTo>
                    <a:pt x="1435" y="2004"/>
                  </a:lnTo>
                  <a:lnTo>
                    <a:pt x="1441" y="1980"/>
                  </a:lnTo>
                  <a:lnTo>
                    <a:pt x="1447" y="1956"/>
                  </a:lnTo>
                  <a:lnTo>
                    <a:pt x="1453" y="1932"/>
                  </a:lnTo>
                  <a:lnTo>
                    <a:pt x="1459" y="1902"/>
                  </a:lnTo>
                  <a:lnTo>
                    <a:pt x="1471" y="1878"/>
                  </a:lnTo>
                  <a:lnTo>
                    <a:pt x="1477" y="1854"/>
                  </a:lnTo>
                  <a:lnTo>
                    <a:pt x="1483" y="1824"/>
                  </a:lnTo>
                  <a:lnTo>
                    <a:pt x="1489" y="1800"/>
                  </a:lnTo>
                  <a:lnTo>
                    <a:pt x="1495" y="1770"/>
                  </a:lnTo>
                  <a:lnTo>
                    <a:pt x="1501" y="1746"/>
                  </a:lnTo>
                  <a:lnTo>
                    <a:pt x="1507" y="1716"/>
                  </a:lnTo>
                  <a:lnTo>
                    <a:pt x="1519" y="1686"/>
                  </a:lnTo>
                  <a:lnTo>
                    <a:pt x="1525" y="1662"/>
                  </a:lnTo>
                  <a:lnTo>
                    <a:pt x="1531" y="1632"/>
                  </a:lnTo>
                  <a:lnTo>
                    <a:pt x="1537" y="1602"/>
                  </a:lnTo>
                  <a:lnTo>
                    <a:pt x="1543" y="1572"/>
                  </a:lnTo>
                  <a:lnTo>
                    <a:pt x="1549" y="1542"/>
                  </a:lnTo>
                  <a:lnTo>
                    <a:pt x="1555" y="1512"/>
                  </a:lnTo>
                  <a:lnTo>
                    <a:pt x="1567" y="1482"/>
                  </a:lnTo>
                  <a:lnTo>
                    <a:pt x="1573" y="1452"/>
                  </a:lnTo>
                  <a:lnTo>
                    <a:pt x="1579" y="1422"/>
                  </a:lnTo>
                  <a:lnTo>
                    <a:pt x="1585" y="1392"/>
                  </a:lnTo>
                  <a:lnTo>
                    <a:pt x="1591" y="1356"/>
                  </a:lnTo>
                  <a:lnTo>
                    <a:pt x="1597" y="1326"/>
                  </a:lnTo>
                  <a:lnTo>
                    <a:pt x="1603" y="1296"/>
                  </a:lnTo>
                  <a:lnTo>
                    <a:pt x="1615" y="1260"/>
                  </a:lnTo>
                  <a:lnTo>
                    <a:pt x="1621" y="1230"/>
                  </a:lnTo>
                  <a:lnTo>
                    <a:pt x="1627" y="1194"/>
                  </a:lnTo>
                  <a:lnTo>
                    <a:pt x="1633" y="1158"/>
                  </a:lnTo>
                  <a:lnTo>
                    <a:pt x="1639" y="1128"/>
                  </a:lnTo>
                  <a:lnTo>
                    <a:pt x="1645" y="1092"/>
                  </a:lnTo>
                  <a:lnTo>
                    <a:pt x="1651" y="1056"/>
                  </a:lnTo>
                  <a:lnTo>
                    <a:pt x="1663" y="1026"/>
                  </a:lnTo>
                  <a:lnTo>
                    <a:pt x="1669" y="990"/>
                  </a:lnTo>
                  <a:lnTo>
                    <a:pt x="1675" y="954"/>
                  </a:lnTo>
                  <a:lnTo>
                    <a:pt x="1681" y="918"/>
                  </a:lnTo>
                  <a:lnTo>
                    <a:pt x="1687" y="882"/>
                  </a:lnTo>
                  <a:lnTo>
                    <a:pt x="1693" y="846"/>
                  </a:lnTo>
                  <a:lnTo>
                    <a:pt x="1699" y="804"/>
                  </a:lnTo>
                  <a:lnTo>
                    <a:pt x="1711" y="768"/>
                  </a:lnTo>
                  <a:lnTo>
                    <a:pt x="1717" y="732"/>
                  </a:lnTo>
                  <a:lnTo>
                    <a:pt x="1723" y="696"/>
                  </a:lnTo>
                  <a:lnTo>
                    <a:pt x="1729" y="654"/>
                  </a:lnTo>
                  <a:lnTo>
                    <a:pt x="1735" y="618"/>
                  </a:lnTo>
                  <a:lnTo>
                    <a:pt x="1741" y="576"/>
                  </a:lnTo>
                  <a:lnTo>
                    <a:pt x="1747" y="540"/>
                  </a:lnTo>
                  <a:lnTo>
                    <a:pt x="1759" y="498"/>
                  </a:lnTo>
                  <a:lnTo>
                    <a:pt x="1765" y="462"/>
                  </a:lnTo>
                  <a:lnTo>
                    <a:pt x="1771" y="420"/>
                  </a:lnTo>
                  <a:lnTo>
                    <a:pt x="1777" y="378"/>
                  </a:lnTo>
                  <a:lnTo>
                    <a:pt x="1783" y="342"/>
                  </a:lnTo>
                  <a:lnTo>
                    <a:pt x="1789" y="300"/>
                  </a:lnTo>
                  <a:lnTo>
                    <a:pt x="1795" y="258"/>
                  </a:lnTo>
                  <a:lnTo>
                    <a:pt x="1807" y="216"/>
                  </a:lnTo>
                  <a:lnTo>
                    <a:pt x="1813" y="174"/>
                  </a:lnTo>
                  <a:lnTo>
                    <a:pt x="1819" y="132"/>
                  </a:lnTo>
                  <a:lnTo>
                    <a:pt x="1825" y="90"/>
                  </a:lnTo>
                  <a:lnTo>
                    <a:pt x="1831" y="42"/>
                  </a:lnTo>
                  <a:lnTo>
                    <a:pt x="18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5"/>
            <p:cNvSpPr/>
            <p:nvPr/>
          </p:nvSpPr>
          <p:spPr>
            <a:xfrm>
              <a:off x="4140000" y="3048120"/>
              <a:ext cx="0" cy="4248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6"/>
          <p:cNvGrpSpPr/>
          <p:nvPr/>
        </p:nvGrpSpPr>
        <p:grpSpPr>
          <a:xfrm>
            <a:off x="1981080" y="3124080"/>
            <a:ext cx="4319640" cy="4248000"/>
            <a:chOff x="1981080" y="3124080"/>
            <a:chExt cx="4319640" cy="4248000"/>
          </a:xfrm>
        </p:grpSpPr>
        <p:sp>
          <p:nvSpPr>
            <p:cNvPr id="259" name="Line 47"/>
            <p:cNvSpPr/>
            <p:nvPr/>
          </p:nvSpPr>
          <p:spPr>
            <a:xfrm>
              <a:off x="4141800" y="3124080"/>
              <a:ext cx="0" cy="4248000"/>
            </a:xfrm>
            <a:prstGeom prst="line">
              <a:avLst/>
            </a:prstGeom>
            <a:ln w="38160">
              <a:solidFill>
                <a:srgbClr val="00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 flipV="1">
              <a:off x="1981080" y="4521960"/>
              <a:ext cx="4319640" cy="2849400"/>
            </a:xfrm>
            <a:custGeom>
              <a:avLst/>
              <a:gdLst/>
              <a:ahLst/>
              <a:rect l="l" t="t" r="r" b="b"/>
              <a:pathLst>
                <a:path w="1837" h="2922">
                  <a:moveTo>
                    <a:pt x="0" y="18"/>
                  </a:moveTo>
                  <a:lnTo>
                    <a:pt x="6" y="60"/>
                  </a:lnTo>
                  <a:lnTo>
                    <a:pt x="12" y="102"/>
                  </a:lnTo>
                  <a:lnTo>
                    <a:pt x="24" y="144"/>
                  </a:lnTo>
                  <a:lnTo>
                    <a:pt x="30" y="186"/>
                  </a:lnTo>
                  <a:lnTo>
                    <a:pt x="36" y="228"/>
                  </a:lnTo>
                  <a:lnTo>
                    <a:pt x="42" y="270"/>
                  </a:lnTo>
                  <a:lnTo>
                    <a:pt x="48" y="312"/>
                  </a:lnTo>
                  <a:lnTo>
                    <a:pt x="54" y="354"/>
                  </a:lnTo>
                  <a:lnTo>
                    <a:pt x="60" y="396"/>
                  </a:lnTo>
                  <a:lnTo>
                    <a:pt x="72" y="432"/>
                  </a:lnTo>
                  <a:lnTo>
                    <a:pt x="78" y="474"/>
                  </a:lnTo>
                  <a:lnTo>
                    <a:pt x="84" y="516"/>
                  </a:lnTo>
                  <a:lnTo>
                    <a:pt x="90" y="552"/>
                  </a:lnTo>
                  <a:lnTo>
                    <a:pt x="96" y="594"/>
                  </a:lnTo>
                  <a:lnTo>
                    <a:pt x="102" y="630"/>
                  </a:lnTo>
                  <a:lnTo>
                    <a:pt x="108" y="672"/>
                  </a:lnTo>
                  <a:lnTo>
                    <a:pt x="120" y="708"/>
                  </a:lnTo>
                  <a:lnTo>
                    <a:pt x="126" y="744"/>
                  </a:lnTo>
                  <a:lnTo>
                    <a:pt x="132" y="780"/>
                  </a:lnTo>
                  <a:lnTo>
                    <a:pt x="138" y="822"/>
                  </a:lnTo>
                  <a:lnTo>
                    <a:pt x="144" y="858"/>
                  </a:lnTo>
                  <a:lnTo>
                    <a:pt x="150" y="894"/>
                  </a:lnTo>
                  <a:lnTo>
                    <a:pt x="156" y="930"/>
                  </a:lnTo>
                  <a:lnTo>
                    <a:pt x="168" y="966"/>
                  </a:lnTo>
                  <a:lnTo>
                    <a:pt x="174" y="1002"/>
                  </a:lnTo>
                  <a:lnTo>
                    <a:pt x="180" y="1038"/>
                  </a:lnTo>
                  <a:lnTo>
                    <a:pt x="186" y="1068"/>
                  </a:lnTo>
                  <a:lnTo>
                    <a:pt x="192" y="1104"/>
                  </a:lnTo>
                  <a:lnTo>
                    <a:pt x="198" y="1140"/>
                  </a:lnTo>
                  <a:lnTo>
                    <a:pt x="204" y="1170"/>
                  </a:lnTo>
                  <a:lnTo>
                    <a:pt x="216" y="1206"/>
                  </a:lnTo>
                  <a:lnTo>
                    <a:pt x="222" y="1242"/>
                  </a:lnTo>
                  <a:lnTo>
                    <a:pt x="228" y="1272"/>
                  </a:lnTo>
                  <a:lnTo>
                    <a:pt x="234" y="1302"/>
                  </a:lnTo>
                  <a:lnTo>
                    <a:pt x="240" y="1338"/>
                  </a:lnTo>
                  <a:lnTo>
                    <a:pt x="246" y="1368"/>
                  </a:lnTo>
                  <a:lnTo>
                    <a:pt x="252" y="1398"/>
                  </a:lnTo>
                  <a:lnTo>
                    <a:pt x="264" y="1434"/>
                  </a:lnTo>
                  <a:lnTo>
                    <a:pt x="270" y="1464"/>
                  </a:lnTo>
                  <a:lnTo>
                    <a:pt x="276" y="1494"/>
                  </a:lnTo>
                  <a:lnTo>
                    <a:pt x="282" y="1524"/>
                  </a:lnTo>
                  <a:lnTo>
                    <a:pt x="288" y="1554"/>
                  </a:lnTo>
                  <a:lnTo>
                    <a:pt x="294" y="1584"/>
                  </a:lnTo>
                  <a:lnTo>
                    <a:pt x="300" y="1614"/>
                  </a:lnTo>
                  <a:lnTo>
                    <a:pt x="312" y="1644"/>
                  </a:lnTo>
                  <a:lnTo>
                    <a:pt x="318" y="1668"/>
                  </a:lnTo>
                  <a:lnTo>
                    <a:pt x="324" y="1698"/>
                  </a:lnTo>
                  <a:lnTo>
                    <a:pt x="330" y="1728"/>
                  </a:lnTo>
                  <a:lnTo>
                    <a:pt x="336" y="1752"/>
                  </a:lnTo>
                  <a:lnTo>
                    <a:pt x="342" y="1782"/>
                  </a:lnTo>
                  <a:lnTo>
                    <a:pt x="348" y="1806"/>
                  </a:lnTo>
                  <a:lnTo>
                    <a:pt x="360" y="1836"/>
                  </a:lnTo>
                  <a:lnTo>
                    <a:pt x="366" y="1860"/>
                  </a:lnTo>
                  <a:lnTo>
                    <a:pt x="372" y="1890"/>
                  </a:lnTo>
                  <a:lnTo>
                    <a:pt x="378" y="1914"/>
                  </a:lnTo>
                  <a:lnTo>
                    <a:pt x="384" y="1938"/>
                  </a:lnTo>
                  <a:lnTo>
                    <a:pt x="390" y="1962"/>
                  </a:lnTo>
                  <a:lnTo>
                    <a:pt x="396" y="1986"/>
                  </a:lnTo>
                  <a:lnTo>
                    <a:pt x="408" y="2010"/>
                  </a:lnTo>
                  <a:lnTo>
                    <a:pt x="414" y="2040"/>
                  </a:lnTo>
                  <a:lnTo>
                    <a:pt x="420" y="2058"/>
                  </a:lnTo>
                  <a:lnTo>
                    <a:pt x="426" y="2082"/>
                  </a:lnTo>
                  <a:lnTo>
                    <a:pt x="432" y="2106"/>
                  </a:lnTo>
                  <a:lnTo>
                    <a:pt x="438" y="2130"/>
                  </a:lnTo>
                  <a:lnTo>
                    <a:pt x="444" y="2154"/>
                  </a:lnTo>
                  <a:lnTo>
                    <a:pt x="456" y="2172"/>
                  </a:lnTo>
                  <a:lnTo>
                    <a:pt x="462" y="2196"/>
                  </a:lnTo>
                  <a:lnTo>
                    <a:pt x="468" y="2220"/>
                  </a:lnTo>
                  <a:lnTo>
                    <a:pt x="474" y="2238"/>
                  </a:lnTo>
                  <a:lnTo>
                    <a:pt x="480" y="2262"/>
                  </a:lnTo>
                  <a:lnTo>
                    <a:pt x="486" y="2280"/>
                  </a:lnTo>
                  <a:lnTo>
                    <a:pt x="492" y="2304"/>
                  </a:lnTo>
                  <a:lnTo>
                    <a:pt x="504" y="2322"/>
                  </a:lnTo>
                  <a:lnTo>
                    <a:pt x="510" y="2340"/>
                  </a:lnTo>
                  <a:lnTo>
                    <a:pt x="516" y="2358"/>
                  </a:lnTo>
                  <a:lnTo>
                    <a:pt x="522" y="2376"/>
                  </a:lnTo>
                  <a:lnTo>
                    <a:pt x="528" y="2400"/>
                  </a:lnTo>
                  <a:lnTo>
                    <a:pt x="534" y="2418"/>
                  </a:lnTo>
                  <a:lnTo>
                    <a:pt x="540" y="2436"/>
                  </a:lnTo>
                  <a:lnTo>
                    <a:pt x="552" y="2454"/>
                  </a:lnTo>
                  <a:lnTo>
                    <a:pt x="558" y="2466"/>
                  </a:lnTo>
                  <a:lnTo>
                    <a:pt x="564" y="2484"/>
                  </a:lnTo>
                  <a:lnTo>
                    <a:pt x="570" y="2502"/>
                  </a:lnTo>
                  <a:lnTo>
                    <a:pt x="576" y="2520"/>
                  </a:lnTo>
                  <a:lnTo>
                    <a:pt x="582" y="2532"/>
                  </a:lnTo>
                  <a:lnTo>
                    <a:pt x="588" y="2550"/>
                  </a:lnTo>
                  <a:lnTo>
                    <a:pt x="600" y="2568"/>
                  </a:lnTo>
                  <a:lnTo>
                    <a:pt x="606" y="2580"/>
                  </a:lnTo>
                  <a:lnTo>
                    <a:pt x="612" y="2592"/>
                  </a:lnTo>
                  <a:lnTo>
                    <a:pt x="618" y="2610"/>
                  </a:lnTo>
                  <a:lnTo>
                    <a:pt x="624" y="2622"/>
                  </a:lnTo>
                  <a:lnTo>
                    <a:pt x="630" y="2640"/>
                  </a:lnTo>
                  <a:lnTo>
                    <a:pt x="636" y="2652"/>
                  </a:lnTo>
                  <a:lnTo>
                    <a:pt x="648" y="2664"/>
                  </a:lnTo>
                  <a:lnTo>
                    <a:pt x="654" y="2676"/>
                  </a:lnTo>
                  <a:lnTo>
                    <a:pt x="660" y="2688"/>
                  </a:lnTo>
                  <a:lnTo>
                    <a:pt x="666" y="2700"/>
                  </a:lnTo>
                  <a:lnTo>
                    <a:pt x="672" y="2712"/>
                  </a:lnTo>
                  <a:lnTo>
                    <a:pt x="678" y="2724"/>
                  </a:lnTo>
                  <a:lnTo>
                    <a:pt x="684" y="2736"/>
                  </a:lnTo>
                  <a:lnTo>
                    <a:pt x="696" y="2748"/>
                  </a:lnTo>
                  <a:lnTo>
                    <a:pt x="702" y="2754"/>
                  </a:lnTo>
                  <a:lnTo>
                    <a:pt x="708" y="2766"/>
                  </a:lnTo>
                  <a:lnTo>
                    <a:pt x="714" y="2778"/>
                  </a:lnTo>
                  <a:lnTo>
                    <a:pt x="720" y="2784"/>
                  </a:lnTo>
                  <a:lnTo>
                    <a:pt x="726" y="2796"/>
                  </a:lnTo>
                  <a:lnTo>
                    <a:pt x="732" y="2802"/>
                  </a:lnTo>
                  <a:lnTo>
                    <a:pt x="744" y="2814"/>
                  </a:lnTo>
                  <a:lnTo>
                    <a:pt x="750" y="2820"/>
                  </a:lnTo>
                  <a:lnTo>
                    <a:pt x="756" y="2826"/>
                  </a:lnTo>
                  <a:lnTo>
                    <a:pt x="762" y="2838"/>
                  </a:lnTo>
                  <a:lnTo>
                    <a:pt x="768" y="2844"/>
                  </a:lnTo>
                  <a:lnTo>
                    <a:pt x="774" y="2850"/>
                  </a:lnTo>
                  <a:lnTo>
                    <a:pt x="780" y="2856"/>
                  </a:lnTo>
                  <a:lnTo>
                    <a:pt x="792" y="2862"/>
                  </a:lnTo>
                  <a:lnTo>
                    <a:pt x="798" y="2868"/>
                  </a:lnTo>
                  <a:lnTo>
                    <a:pt x="804" y="2874"/>
                  </a:lnTo>
                  <a:lnTo>
                    <a:pt x="810" y="2880"/>
                  </a:lnTo>
                  <a:lnTo>
                    <a:pt x="816" y="2886"/>
                  </a:lnTo>
                  <a:lnTo>
                    <a:pt x="822" y="2892"/>
                  </a:lnTo>
                  <a:lnTo>
                    <a:pt x="828" y="2892"/>
                  </a:lnTo>
                  <a:lnTo>
                    <a:pt x="834" y="2898"/>
                  </a:lnTo>
                  <a:lnTo>
                    <a:pt x="846" y="2904"/>
                  </a:lnTo>
                  <a:lnTo>
                    <a:pt x="852" y="2904"/>
                  </a:lnTo>
                  <a:lnTo>
                    <a:pt x="858" y="2910"/>
                  </a:lnTo>
                  <a:lnTo>
                    <a:pt x="864" y="2910"/>
                  </a:lnTo>
                  <a:lnTo>
                    <a:pt x="870" y="2916"/>
                  </a:lnTo>
                  <a:lnTo>
                    <a:pt x="876" y="2916"/>
                  </a:lnTo>
                  <a:lnTo>
                    <a:pt x="882" y="2916"/>
                  </a:lnTo>
                  <a:lnTo>
                    <a:pt x="894" y="2916"/>
                  </a:lnTo>
                  <a:lnTo>
                    <a:pt x="900" y="2922"/>
                  </a:lnTo>
                  <a:lnTo>
                    <a:pt x="906" y="2922"/>
                  </a:lnTo>
                  <a:lnTo>
                    <a:pt x="912" y="2922"/>
                  </a:lnTo>
                  <a:lnTo>
                    <a:pt x="918" y="2922"/>
                  </a:lnTo>
                  <a:lnTo>
                    <a:pt x="925" y="2922"/>
                  </a:lnTo>
                  <a:lnTo>
                    <a:pt x="931" y="2922"/>
                  </a:lnTo>
                  <a:lnTo>
                    <a:pt x="943" y="2922"/>
                  </a:lnTo>
                  <a:lnTo>
                    <a:pt x="949" y="2916"/>
                  </a:lnTo>
                  <a:lnTo>
                    <a:pt x="955" y="2916"/>
                  </a:lnTo>
                  <a:lnTo>
                    <a:pt x="961" y="2916"/>
                  </a:lnTo>
                  <a:lnTo>
                    <a:pt x="967" y="2910"/>
                  </a:lnTo>
                  <a:lnTo>
                    <a:pt x="973" y="2910"/>
                  </a:lnTo>
                  <a:lnTo>
                    <a:pt x="979" y="2910"/>
                  </a:lnTo>
                  <a:lnTo>
                    <a:pt x="991" y="2904"/>
                  </a:lnTo>
                  <a:lnTo>
                    <a:pt x="997" y="2898"/>
                  </a:lnTo>
                  <a:lnTo>
                    <a:pt x="1003" y="2898"/>
                  </a:lnTo>
                  <a:lnTo>
                    <a:pt x="1009" y="2892"/>
                  </a:lnTo>
                  <a:lnTo>
                    <a:pt x="1015" y="2886"/>
                  </a:lnTo>
                  <a:lnTo>
                    <a:pt x="1021" y="2886"/>
                  </a:lnTo>
                  <a:lnTo>
                    <a:pt x="1027" y="2880"/>
                  </a:lnTo>
                  <a:lnTo>
                    <a:pt x="1039" y="2874"/>
                  </a:lnTo>
                  <a:lnTo>
                    <a:pt x="1045" y="2868"/>
                  </a:lnTo>
                  <a:lnTo>
                    <a:pt x="1051" y="2862"/>
                  </a:lnTo>
                  <a:lnTo>
                    <a:pt x="1057" y="2856"/>
                  </a:lnTo>
                  <a:lnTo>
                    <a:pt x="1063" y="2850"/>
                  </a:lnTo>
                  <a:lnTo>
                    <a:pt x="1069" y="2844"/>
                  </a:lnTo>
                  <a:lnTo>
                    <a:pt x="1075" y="2832"/>
                  </a:lnTo>
                  <a:lnTo>
                    <a:pt x="1087" y="2826"/>
                  </a:lnTo>
                  <a:lnTo>
                    <a:pt x="1093" y="2820"/>
                  </a:lnTo>
                  <a:lnTo>
                    <a:pt x="1099" y="2808"/>
                  </a:lnTo>
                  <a:lnTo>
                    <a:pt x="1105" y="2802"/>
                  </a:lnTo>
                  <a:lnTo>
                    <a:pt x="1111" y="2790"/>
                  </a:lnTo>
                  <a:lnTo>
                    <a:pt x="1117" y="2784"/>
                  </a:lnTo>
                  <a:lnTo>
                    <a:pt x="1123" y="2772"/>
                  </a:lnTo>
                  <a:lnTo>
                    <a:pt x="1135" y="2766"/>
                  </a:lnTo>
                  <a:lnTo>
                    <a:pt x="1141" y="2754"/>
                  </a:lnTo>
                  <a:lnTo>
                    <a:pt x="1147" y="2742"/>
                  </a:lnTo>
                  <a:lnTo>
                    <a:pt x="1153" y="2730"/>
                  </a:lnTo>
                  <a:lnTo>
                    <a:pt x="1159" y="2718"/>
                  </a:lnTo>
                  <a:lnTo>
                    <a:pt x="1165" y="2706"/>
                  </a:lnTo>
                  <a:lnTo>
                    <a:pt x="1171" y="2694"/>
                  </a:lnTo>
                  <a:lnTo>
                    <a:pt x="1183" y="2682"/>
                  </a:lnTo>
                  <a:lnTo>
                    <a:pt x="1189" y="2670"/>
                  </a:lnTo>
                  <a:lnTo>
                    <a:pt x="1195" y="2658"/>
                  </a:lnTo>
                  <a:lnTo>
                    <a:pt x="1201" y="2646"/>
                  </a:lnTo>
                  <a:lnTo>
                    <a:pt x="1207" y="2634"/>
                  </a:lnTo>
                  <a:lnTo>
                    <a:pt x="1213" y="2616"/>
                  </a:lnTo>
                  <a:lnTo>
                    <a:pt x="1219" y="2604"/>
                  </a:lnTo>
                  <a:lnTo>
                    <a:pt x="1231" y="2592"/>
                  </a:lnTo>
                  <a:lnTo>
                    <a:pt x="1237" y="2574"/>
                  </a:lnTo>
                  <a:lnTo>
                    <a:pt x="1243" y="2562"/>
                  </a:lnTo>
                  <a:lnTo>
                    <a:pt x="1249" y="2544"/>
                  </a:lnTo>
                  <a:lnTo>
                    <a:pt x="1255" y="2526"/>
                  </a:lnTo>
                  <a:lnTo>
                    <a:pt x="1261" y="2514"/>
                  </a:lnTo>
                  <a:lnTo>
                    <a:pt x="1267" y="2496"/>
                  </a:lnTo>
                  <a:lnTo>
                    <a:pt x="1279" y="2478"/>
                  </a:lnTo>
                  <a:lnTo>
                    <a:pt x="1285" y="2460"/>
                  </a:lnTo>
                  <a:lnTo>
                    <a:pt x="1291" y="2442"/>
                  </a:lnTo>
                  <a:lnTo>
                    <a:pt x="1297" y="2430"/>
                  </a:lnTo>
                  <a:lnTo>
                    <a:pt x="1303" y="2412"/>
                  </a:lnTo>
                  <a:lnTo>
                    <a:pt x="1309" y="2388"/>
                  </a:lnTo>
                  <a:lnTo>
                    <a:pt x="1315" y="2370"/>
                  </a:lnTo>
                  <a:lnTo>
                    <a:pt x="1327" y="2352"/>
                  </a:lnTo>
                  <a:lnTo>
                    <a:pt x="1333" y="2334"/>
                  </a:lnTo>
                  <a:lnTo>
                    <a:pt x="1339" y="2316"/>
                  </a:lnTo>
                  <a:lnTo>
                    <a:pt x="1345" y="2292"/>
                  </a:lnTo>
                  <a:lnTo>
                    <a:pt x="1351" y="2274"/>
                  </a:lnTo>
                  <a:lnTo>
                    <a:pt x="1357" y="2250"/>
                  </a:lnTo>
                  <a:lnTo>
                    <a:pt x="1363" y="2232"/>
                  </a:lnTo>
                  <a:lnTo>
                    <a:pt x="1375" y="2208"/>
                  </a:lnTo>
                  <a:lnTo>
                    <a:pt x="1381" y="2190"/>
                  </a:lnTo>
                  <a:lnTo>
                    <a:pt x="1387" y="2166"/>
                  </a:lnTo>
                  <a:lnTo>
                    <a:pt x="1393" y="2142"/>
                  </a:lnTo>
                  <a:lnTo>
                    <a:pt x="1399" y="2124"/>
                  </a:lnTo>
                  <a:lnTo>
                    <a:pt x="1405" y="2100"/>
                  </a:lnTo>
                  <a:lnTo>
                    <a:pt x="1411" y="2076"/>
                  </a:lnTo>
                  <a:lnTo>
                    <a:pt x="1423" y="2052"/>
                  </a:lnTo>
                  <a:lnTo>
                    <a:pt x="1429" y="2028"/>
                  </a:lnTo>
                  <a:lnTo>
                    <a:pt x="1435" y="2004"/>
                  </a:lnTo>
                  <a:lnTo>
                    <a:pt x="1441" y="1980"/>
                  </a:lnTo>
                  <a:lnTo>
                    <a:pt x="1447" y="1956"/>
                  </a:lnTo>
                  <a:lnTo>
                    <a:pt x="1453" y="1932"/>
                  </a:lnTo>
                  <a:lnTo>
                    <a:pt x="1459" y="1902"/>
                  </a:lnTo>
                  <a:lnTo>
                    <a:pt x="1471" y="1878"/>
                  </a:lnTo>
                  <a:lnTo>
                    <a:pt x="1477" y="1854"/>
                  </a:lnTo>
                  <a:lnTo>
                    <a:pt x="1483" y="1824"/>
                  </a:lnTo>
                  <a:lnTo>
                    <a:pt x="1489" y="1800"/>
                  </a:lnTo>
                  <a:lnTo>
                    <a:pt x="1495" y="1770"/>
                  </a:lnTo>
                  <a:lnTo>
                    <a:pt x="1501" y="1746"/>
                  </a:lnTo>
                  <a:lnTo>
                    <a:pt x="1507" y="1716"/>
                  </a:lnTo>
                  <a:lnTo>
                    <a:pt x="1519" y="1686"/>
                  </a:lnTo>
                  <a:lnTo>
                    <a:pt x="1525" y="1662"/>
                  </a:lnTo>
                  <a:lnTo>
                    <a:pt x="1531" y="1632"/>
                  </a:lnTo>
                  <a:lnTo>
                    <a:pt x="1537" y="1602"/>
                  </a:lnTo>
                  <a:lnTo>
                    <a:pt x="1543" y="1572"/>
                  </a:lnTo>
                  <a:lnTo>
                    <a:pt x="1549" y="1542"/>
                  </a:lnTo>
                  <a:lnTo>
                    <a:pt x="1555" y="1512"/>
                  </a:lnTo>
                  <a:lnTo>
                    <a:pt x="1567" y="1482"/>
                  </a:lnTo>
                  <a:lnTo>
                    <a:pt x="1573" y="1452"/>
                  </a:lnTo>
                  <a:lnTo>
                    <a:pt x="1579" y="1422"/>
                  </a:lnTo>
                  <a:lnTo>
                    <a:pt x="1585" y="1392"/>
                  </a:lnTo>
                  <a:lnTo>
                    <a:pt x="1591" y="1356"/>
                  </a:lnTo>
                  <a:lnTo>
                    <a:pt x="1597" y="1326"/>
                  </a:lnTo>
                  <a:lnTo>
                    <a:pt x="1603" y="1296"/>
                  </a:lnTo>
                  <a:lnTo>
                    <a:pt x="1615" y="1260"/>
                  </a:lnTo>
                  <a:lnTo>
                    <a:pt x="1621" y="1230"/>
                  </a:lnTo>
                  <a:lnTo>
                    <a:pt x="1627" y="1194"/>
                  </a:lnTo>
                  <a:lnTo>
                    <a:pt x="1633" y="1158"/>
                  </a:lnTo>
                  <a:lnTo>
                    <a:pt x="1639" y="1128"/>
                  </a:lnTo>
                  <a:lnTo>
                    <a:pt x="1645" y="1092"/>
                  </a:lnTo>
                  <a:lnTo>
                    <a:pt x="1651" y="1056"/>
                  </a:lnTo>
                  <a:lnTo>
                    <a:pt x="1663" y="1026"/>
                  </a:lnTo>
                  <a:lnTo>
                    <a:pt x="1669" y="990"/>
                  </a:lnTo>
                  <a:lnTo>
                    <a:pt x="1675" y="954"/>
                  </a:lnTo>
                  <a:lnTo>
                    <a:pt x="1681" y="918"/>
                  </a:lnTo>
                  <a:lnTo>
                    <a:pt x="1687" y="882"/>
                  </a:lnTo>
                  <a:lnTo>
                    <a:pt x="1693" y="846"/>
                  </a:lnTo>
                  <a:lnTo>
                    <a:pt x="1699" y="804"/>
                  </a:lnTo>
                  <a:lnTo>
                    <a:pt x="1711" y="768"/>
                  </a:lnTo>
                  <a:lnTo>
                    <a:pt x="1717" y="732"/>
                  </a:lnTo>
                  <a:lnTo>
                    <a:pt x="1723" y="696"/>
                  </a:lnTo>
                  <a:lnTo>
                    <a:pt x="1729" y="654"/>
                  </a:lnTo>
                  <a:lnTo>
                    <a:pt x="1735" y="618"/>
                  </a:lnTo>
                  <a:lnTo>
                    <a:pt x="1741" y="576"/>
                  </a:lnTo>
                  <a:lnTo>
                    <a:pt x="1747" y="540"/>
                  </a:lnTo>
                  <a:lnTo>
                    <a:pt x="1759" y="498"/>
                  </a:lnTo>
                  <a:lnTo>
                    <a:pt x="1765" y="462"/>
                  </a:lnTo>
                  <a:lnTo>
                    <a:pt x="1771" y="420"/>
                  </a:lnTo>
                  <a:lnTo>
                    <a:pt x="1777" y="378"/>
                  </a:lnTo>
                  <a:lnTo>
                    <a:pt x="1783" y="342"/>
                  </a:lnTo>
                  <a:lnTo>
                    <a:pt x="1789" y="300"/>
                  </a:lnTo>
                  <a:lnTo>
                    <a:pt x="1795" y="258"/>
                  </a:lnTo>
                  <a:lnTo>
                    <a:pt x="1807" y="216"/>
                  </a:lnTo>
                  <a:lnTo>
                    <a:pt x="1813" y="174"/>
                  </a:lnTo>
                  <a:lnTo>
                    <a:pt x="1819" y="132"/>
                  </a:lnTo>
                  <a:lnTo>
                    <a:pt x="1825" y="90"/>
                  </a:lnTo>
                  <a:lnTo>
                    <a:pt x="1831" y="42"/>
                  </a:lnTo>
                  <a:lnTo>
                    <a:pt x="1837" y="0"/>
                  </a:ln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Box 48"/>
          <p:cNvSpPr/>
          <p:nvPr/>
        </p:nvSpPr>
        <p:spPr>
          <a:xfrm>
            <a:off x="2671560" y="2743200"/>
            <a:ext cx="11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 -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49"/>
          <p:cNvSpPr/>
          <p:nvPr/>
        </p:nvSpPr>
        <p:spPr>
          <a:xfrm>
            <a:off x="2899800" y="388620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-2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0"/>
          <p:cNvSpPr/>
          <p:nvPr/>
        </p:nvSpPr>
        <p:spPr>
          <a:xfrm>
            <a:off x="4880520" y="396252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2,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51"/>
          <p:cNvSpPr/>
          <p:nvPr/>
        </p:nvSpPr>
        <p:spPr>
          <a:xfrm>
            <a:off x="4728600" y="274320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矩形 49"/>
          <p:cNvSpPr/>
          <p:nvPr/>
        </p:nvSpPr>
        <p:spPr>
          <a:xfrm>
            <a:off x="2743200" y="228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Object 48" descr=""/>
          <p:cNvPicPr/>
          <p:nvPr/>
        </p:nvPicPr>
        <p:blipFill>
          <a:blip r:embed="rId8"/>
          <a:stretch/>
        </p:blipFill>
        <p:spPr>
          <a:xfrm>
            <a:off x="3809880" y="0"/>
            <a:ext cx="1447920" cy="901800"/>
          </a:xfrm>
          <a:prstGeom prst="rect">
            <a:avLst/>
          </a:prstGeom>
          <a:ln w="0">
            <a:noFill/>
          </a:ln>
        </p:spPr>
      </p:pic>
      <p:sp>
        <p:nvSpPr>
          <p:cNvPr id="267" name="矩形 51"/>
          <p:cNvSpPr/>
          <p:nvPr/>
        </p:nvSpPr>
        <p:spPr>
          <a:xfrm>
            <a:off x="5498280" y="2286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得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Object 50" descr=""/>
          <p:cNvPicPr/>
          <p:nvPr/>
        </p:nvPicPr>
        <p:blipFill>
          <a:blip r:embed="rId9"/>
          <a:stretch/>
        </p:blipFill>
        <p:spPr>
          <a:xfrm>
            <a:off x="6975360" y="0"/>
            <a:ext cx="2168640" cy="838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51" descr=""/>
          <p:cNvPicPr/>
          <p:nvPr/>
        </p:nvPicPr>
        <p:blipFill>
          <a:blip r:embed="rId10"/>
          <a:stretch/>
        </p:blipFill>
        <p:spPr>
          <a:xfrm>
            <a:off x="4876920" y="533520"/>
            <a:ext cx="2514600" cy="971280"/>
          </a:xfrm>
          <a:prstGeom prst="rect">
            <a:avLst/>
          </a:prstGeom>
          <a:ln w="0">
            <a:noFill/>
          </a:ln>
        </p:spPr>
      </p:pic>
      <p:sp>
        <p:nvSpPr>
          <p:cNvPr id="270" name="矩形 54"/>
          <p:cNvSpPr/>
          <p:nvPr/>
        </p:nvSpPr>
        <p:spPr>
          <a:xfrm>
            <a:off x="7391520" y="83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图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矩形 55"/>
          <p:cNvSpPr/>
          <p:nvPr/>
        </p:nvSpPr>
        <p:spPr>
          <a:xfrm>
            <a:off x="8960760" y="380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56"/>
          <p:cNvSpPr/>
          <p:nvPr/>
        </p:nvSpPr>
        <p:spPr>
          <a:xfrm>
            <a:off x="0" y="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左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平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457 L 0.10833 0.00948 E">
                                      <p:cBhvr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139 L -0.09445 0.00139 E">
                                      <p:cBhvr>
                                        <p:cTn id="22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1"/>
          <p:cNvSpPr/>
          <p:nvPr/>
        </p:nvSpPr>
        <p:spPr>
          <a:xfrm>
            <a:off x="471240" y="457200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752480" y="48769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矩形 13"/>
          <p:cNvSpPr/>
          <p:nvPr/>
        </p:nvSpPr>
        <p:spPr>
          <a:xfrm>
            <a:off x="2232360" y="4267080"/>
            <a:ext cx="35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右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矩形 14"/>
          <p:cNvSpPr/>
          <p:nvPr/>
        </p:nvSpPr>
        <p:spPr>
          <a:xfrm>
            <a:off x="2154960" y="487692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左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 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矩形 15"/>
          <p:cNvSpPr/>
          <p:nvPr/>
        </p:nvSpPr>
        <p:spPr>
          <a:xfrm>
            <a:off x="6172200" y="4648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x-h)</a:t>
            </a:r>
            <a:r>
              <a:rPr b="1" lang="en-US" sz="32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Object 7" descr=""/>
          <p:cNvPicPr/>
          <p:nvPr/>
        </p:nvPicPr>
        <p:blipFill>
          <a:blip r:embed="rId1"/>
          <a:stretch/>
        </p:blipFill>
        <p:spPr>
          <a:xfrm>
            <a:off x="4572000" y="4800600"/>
            <a:ext cx="457200" cy="703440"/>
          </a:xfrm>
          <a:prstGeom prst="rect">
            <a:avLst/>
          </a:prstGeom>
          <a:ln w="0">
            <a:noFill/>
          </a:ln>
        </p:spPr>
      </p:pic>
      <p:sp>
        <p:nvSpPr>
          <p:cNvPr id="279" name="矩形 18"/>
          <p:cNvSpPr/>
          <p:nvPr/>
        </p:nvSpPr>
        <p:spPr>
          <a:xfrm>
            <a:off x="776160" y="175248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18020f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18020f"/>
                </a:solidFill>
                <a:latin typeface="Times New Roman"/>
              </a:rPr>
              <a:t>ax</a:t>
            </a:r>
            <a:r>
              <a:rPr b="1" lang="en-US" sz="3200" spc="-1" strike="noStrike" baseline="30000">
                <a:solidFill>
                  <a:srgbClr val="18020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矩形 19"/>
          <p:cNvSpPr/>
          <p:nvPr/>
        </p:nvSpPr>
        <p:spPr>
          <a:xfrm>
            <a:off x="2241720" y="1447920"/>
            <a:ext cx="33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矩形 20"/>
          <p:cNvSpPr/>
          <p:nvPr/>
        </p:nvSpPr>
        <p:spPr>
          <a:xfrm>
            <a:off x="2319480" y="2057400"/>
            <a:ext cx="34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18020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</a:t>
            </a:r>
            <a:r>
              <a:rPr b="1" lang="zh-CN" sz="2800" spc="-1" strike="noStrike">
                <a:solidFill>
                  <a:srgbClr val="18020f"/>
                </a:solidFill>
                <a:latin typeface="Times New Roman"/>
              </a:rPr>
              <a:t>平移    个单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Object 11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133720" cy="68580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12" descr=""/>
          <p:cNvPicPr/>
          <p:nvPr/>
        </p:nvPicPr>
        <p:blipFill>
          <a:blip r:embed="rId3"/>
          <a:stretch/>
        </p:blipFill>
        <p:spPr>
          <a:xfrm>
            <a:off x="4724280" y="2057400"/>
            <a:ext cx="387360" cy="5954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3"/>
          <p:cNvSpPr/>
          <p:nvPr/>
        </p:nvSpPr>
        <p:spPr>
          <a:xfrm>
            <a:off x="787320" y="0"/>
            <a:ext cx="402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楷体"/>
                <a:ea typeface="楷体"/>
              </a:rPr>
              <a:t>4.</a:t>
            </a: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上下平移规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2015280" y="29718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楷体"/>
                <a:ea typeface="楷体"/>
              </a:rPr>
              <a:t>左右平移规律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905120" y="2057400"/>
            <a:ext cx="41907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6"/>
          <p:cNvSpPr/>
          <p:nvPr/>
        </p:nvSpPr>
        <p:spPr>
          <a:xfrm>
            <a:off x="0" y="609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y=a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2438280"/>
          <a:ext cx="8859960" cy="423540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Text Box 58"/>
          <p:cNvSpPr/>
          <p:nvPr/>
        </p:nvSpPr>
        <p:spPr>
          <a:xfrm>
            <a:off x="316800" y="2514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9"/>
          <p:cNvSpPr/>
          <p:nvPr/>
        </p:nvSpPr>
        <p:spPr>
          <a:xfrm>
            <a:off x="25488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240480" y="3581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254880" y="30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37512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4"/>
          <p:cNvSpPr/>
          <p:nvPr/>
        </p:nvSpPr>
        <p:spPr>
          <a:xfrm>
            <a:off x="364320" y="556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5"/>
          <p:cNvSpPr/>
          <p:nvPr/>
        </p:nvSpPr>
        <p:spPr>
          <a:xfrm>
            <a:off x="1902960" y="2438280"/>
            <a:ext cx="21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ax2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6"/>
          <p:cNvSpPr/>
          <p:nvPr/>
        </p:nvSpPr>
        <p:spPr>
          <a:xfrm>
            <a:off x="5484240" y="2438280"/>
            <a:ext cx="21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=ax2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l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7"/>
          <p:cNvSpPr/>
          <p:nvPr/>
        </p:nvSpPr>
        <p:spPr>
          <a:xfrm>
            <a:off x="2300760" y="3962520"/>
            <a:ext cx="17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8"/>
          <p:cNvSpPr/>
          <p:nvPr/>
        </p:nvSpPr>
        <p:spPr>
          <a:xfrm>
            <a:off x="5996160" y="396252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9"/>
          <p:cNvSpPr/>
          <p:nvPr/>
        </p:nvSpPr>
        <p:spPr>
          <a:xfrm>
            <a:off x="2402280" y="35053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0"/>
          <p:cNvSpPr/>
          <p:nvPr/>
        </p:nvSpPr>
        <p:spPr>
          <a:xfrm>
            <a:off x="5983560" y="35053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3"/>
          <p:cNvSpPr/>
          <p:nvPr/>
        </p:nvSpPr>
        <p:spPr>
          <a:xfrm>
            <a:off x="268416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4"/>
          <p:cNvSpPr/>
          <p:nvPr/>
        </p:nvSpPr>
        <p:spPr>
          <a:xfrm>
            <a:off x="611316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5"/>
          <p:cNvSpPr/>
          <p:nvPr/>
        </p:nvSpPr>
        <p:spPr>
          <a:xfrm>
            <a:off x="1600200" y="556272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最小值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76"/>
          <p:cNvSpPr/>
          <p:nvPr/>
        </p:nvSpPr>
        <p:spPr>
          <a:xfrm>
            <a:off x="5477400" y="5562720"/>
            <a:ext cx="28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最大值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7"/>
          <p:cNvSpPr/>
          <p:nvPr/>
        </p:nvSpPr>
        <p:spPr>
          <a:xfrm>
            <a:off x="1523880" y="44956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8"/>
          <p:cNvSpPr/>
          <p:nvPr/>
        </p:nvSpPr>
        <p:spPr>
          <a:xfrm>
            <a:off x="5181480" y="44956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6"/>
          <p:cNvSpPr/>
          <p:nvPr/>
        </p:nvSpPr>
        <p:spPr>
          <a:xfrm>
            <a:off x="152280" y="457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286000"/>
          <a:ext cx="8859960" cy="425124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58"/>
          <p:cNvSpPr/>
          <p:nvPr/>
        </p:nvSpPr>
        <p:spPr>
          <a:xfrm>
            <a:off x="88200" y="2362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5488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坐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0"/>
          <p:cNvSpPr/>
          <p:nvPr/>
        </p:nvSpPr>
        <p:spPr>
          <a:xfrm>
            <a:off x="240480" y="342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2"/>
          <p:cNvSpPr/>
          <p:nvPr/>
        </p:nvSpPr>
        <p:spPr>
          <a:xfrm>
            <a:off x="0" y="28954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口方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3"/>
          <p:cNvSpPr/>
          <p:nvPr/>
        </p:nvSpPr>
        <p:spPr>
          <a:xfrm>
            <a:off x="37512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4"/>
          <p:cNvSpPr/>
          <p:nvPr/>
        </p:nvSpPr>
        <p:spPr>
          <a:xfrm>
            <a:off x="440280" y="548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5"/>
          <p:cNvSpPr/>
          <p:nvPr/>
        </p:nvSpPr>
        <p:spPr>
          <a:xfrm>
            <a:off x="1913400" y="2286000"/>
            <a:ext cx="25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6"/>
          <p:cNvSpPr/>
          <p:nvPr/>
        </p:nvSpPr>
        <p:spPr>
          <a:xfrm>
            <a:off x="5647320" y="2286000"/>
            <a:ext cx="25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(a&l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7"/>
          <p:cNvSpPr/>
          <p:nvPr/>
        </p:nvSpPr>
        <p:spPr>
          <a:xfrm>
            <a:off x="2300760" y="3809880"/>
            <a:ext cx="17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8"/>
          <p:cNvSpPr/>
          <p:nvPr/>
        </p:nvSpPr>
        <p:spPr>
          <a:xfrm>
            <a:off x="5996520" y="388620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2402640" y="335268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6060240" y="3352680"/>
            <a:ext cx="14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x=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3"/>
          <p:cNvSpPr/>
          <p:nvPr/>
        </p:nvSpPr>
        <p:spPr>
          <a:xfrm>
            <a:off x="268416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向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4"/>
          <p:cNvSpPr/>
          <p:nvPr/>
        </p:nvSpPr>
        <p:spPr>
          <a:xfrm>
            <a:off x="626580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向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5"/>
          <p:cNvSpPr/>
          <p:nvPr/>
        </p:nvSpPr>
        <p:spPr>
          <a:xfrm>
            <a:off x="1819440" y="5410080"/>
            <a:ext cx="28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最小值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6"/>
          <p:cNvSpPr/>
          <p:nvPr/>
        </p:nvSpPr>
        <p:spPr>
          <a:xfrm>
            <a:off x="5257800" y="54864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最大值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7"/>
          <p:cNvSpPr/>
          <p:nvPr/>
        </p:nvSpPr>
        <p:spPr>
          <a:xfrm>
            <a:off x="1600200" y="4419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c00000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8"/>
          <p:cNvSpPr/>
          <p:nvPr/>
        </p:nvSpPr>
        <p:spPr>
          <a:xfrm>
            <a:off x="5257800" y="4419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增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在对称轴的右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y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的增大而减小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1828800" y="2743200"/>
            <a:ext cx="6638400" cy="5201640"/>
            <a:chOff x="1828800" y="2743200"/>
            <a:chExt cx="6638400" cy="5201640"/>
          </a:xfrm>
        </p:grpSpPr>
        <p:grpSp>
          <p:nvGrpSpPr>
            <p:cNvPr id="328" name="Group 17"/>
            <p:cNvGrpSpPr/>
            <p:nvPr/>
          </p:nvGrpSpPr>
          <p:grpSpPr>
            <a:xfrm>
              <a:off x="1828800" y="3047760"/>
              <a:ext cx="6161040" cy="4897080"/>
              <a:chOff x="1828800" y="3047760"/>
              <a:chExt cx="6161040" cy="4897080"/>
            </a:xfrm>
          </p:grpSpPr>
          <p:pic>
            <p:nvPicPr>
              <p:cNvPr id="329" name="Picture 18" descr=""/>
              <p:cNvPicPr/>
              <p:nvPr/>
            </p:nvPicPr>
            <p:blipFill>
              <a:blip r:embed="rId1"/>
              <a:srcRect l="20548" t="0" r="0" b="0"/>
              <a:stretch/>
            </p:blipFill>
            <p:spPr>
              <a:xfrm>
                <a:off x="1828800" y="3047760"/>
                <a:ext cx="2977920" cy="288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Picture 19" descr=""/>
              <p:cNvPicPr/>
              <p:nvPr/>
            </p:nvPicPr>
            <p:blipFill>
              <a:blip r:embed="rId2"/>
              <a:srcRect l="0" t="0" r="12330" b="0"/>
              <a:stretch/>
            </p:blipFill>
            <p:spPr>
              <a:xfrm>
                <a:off x="4703760" y="3047760"/>
                <a:ext cx="3285720" cy="288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Picture 20" descr=""/>
              <p:cNvPicPr/>
              <p:nvPr/>
            </p:nvPicPr>
            <p:blipFill>
              <a:blip r:embed="rId3"/>
              <a:srcRect l="20548" t="0" r="0" b="25509"/>
              <a:stretch/>
            </p:blipFill>
            <p:spPr>
              <a:xfrm>
                <a:off x="1828800" y="5799240"/>
                <a:ext cx="2977920" cy="21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21" descr=""/>
              <p:cNvPicPr/>
              <p:nvPr/>
            </p:nvPicPr>
            <p:blipFill>
              <a:blip r:embed="rId4"/>
              <a:srcRect l="0" t="0" r="12330" b="25509"/>
              <a:stretch/>
            </p:blipFill>
            <p:spPr>
              <a:xfrm>
                <a:off x="4703760" y="5799240"/>
                <a:ext cx="3285720" cy="214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Line 22"/>
              <p:cNvSpPr/>
              <p:nvPr/>
            </p:nvSpPr>
            <p:spPr>
              <a:xfrm>
                <a:off x="1828800" y="5839200"/>
                <a:ext cx="616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23"/>
              <p:cNvSpPr/>
              <p:nvPr/>
            </p:nvSpPr>
            <p:spPr>
              <a:xfrm flipV="1">
                <a:off x="4755240" y="3144960"/>
                <a:ext cx="0" cy="440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24"/>
            <p:cNvSpPr/>
            <p:nvPr/>
          </p:nvSpPr>
          <p:spPr>
            <a:xfrm>
              <a:off x="4452480" y="5790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25"/>
            <p:cNvSpPr/>
            <p:nvPr/>
          </p:nvSpPr>
          <p:spPr>
            <a:xfrm>
              <a:off x="8082360" y="5486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4805640" y="27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7"/>
            <p:cNvSpPr/>
            <p:nvPr/>
          </p:nvSpPr>
          <p:spPr>
            <a:xfrm>
              <a:off x="500652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28"/>
            <p:cNvSpPr/>
            <p:nvPr/>
          </p:nvSpPr>
          <p:spPr>
            <a:xfrm>
              <a:off x="535788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9"/>
            <p:cNvSpPr/>
            <p:nvPr/>
          </p:nvSpPr>
          <p:spPr>
            <a:xfrm>
              <a:off x="571536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607644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1"/>
            <p:cNvSpPr/>
            <p:nvPr/>
          </p:nvSpPr>
          <p:spPr>
            <a:xfrm>
              <a:off x="6434280" y="58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32"/>
            <p:cNvSpPr/>
            <p:nvPr/>
          </p:nvSpPr>
          <p:spPr>
            <a:xfrm>
              <a:off x="4434840" y="5315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3"/>
            <p:cNvSpPr/>
            <p:nvPr/>
          </p:nvSpPr>
          <p:spPr>
            <a:xfrm>
              <a:off x="4443120" y="494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4"/>
            <p:cNvSpPr/>
            <p:nvPr/>
          </p:nvSpPr>
          <p:spPr>
            <a:xfrm>
              <a:off x="4443120" y="460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4443120" y="422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4443120" y="391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37"/>
            <p:cNvSpPr/>
            <p:nvPr/>
          </p:nvSpPr>
          <p:spPr>
            <a:xfrm>
              <a:off x="2701080" y="5810400"/>
              <a:ext cx="5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8"/>
            <p:cNvSpPr/>
            <p:nvPr/>
          </p:nvSpPr>
          <p:spPr>
            <a:xfrm>
              <a:off x="3074760" y="58104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3434400" y="58104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3795480" y="581040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41"/>
            <p:cNvSpPr/>
            <p:nvPr/>
          </p:nvSpPr>
          <p:spPr>
            <a:xfrm>
              <a:off x="4152960" y="581040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42"/>
            <p:cNvSpPr/>
            <p:nvPr/>
          </p:nvSpPr>
          <p:spPr>
            <a:xfrm>
              <a:off x="4358520" y="737676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4358520" y="703584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44"/>
            <p:cNvSpPr/>
            <p:nvPr/>
          </p:nvSpPr>
          <p:spPr>
            <a:xfrm>
              <a:off x="4358520" y="669024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5"/>
            <p:cNvSpPr/>
            <p:nvPr/>
          </p:nvSpPr>
          <p:spPr>
            <a:xfrm>
              <a:off x="4358520" y="634752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46"/>
            <p:cNvSpPr/>
            <p:nvPr/>
          </p:nvSpPr>
          <p:spPr>
            <a:xfrm>
              <a:off x="4358520" y="6003720"/>
              <a:ext cx="55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Freeform 47"/>
          <p:cNvSpPr/>
          <p:nvPr/>
        </p:nvSpPr>
        <p:spPr>
          <a:xfrm>
            <a:off x="3886200" y="3276720"/>
            <a:ext cx="1600200" cy="2590560"/>
          </a:xfrm>
          <a:custGeom>
            <a:avLst/>
            <a:gdLst/>
            <a:ahLst/>
            <a:rect l="l" t="t" r="r" b="b"/>
            <a:pathLst>
              <a:path w="1543" h="2064">
                <a:moveTo>
                  <a:pt x="0" y="0"/>
                </a:moveTo>
                <a:lnTo>
                  <a:pt x="6" y="36"/>
                </a:lnTo>
                <a:lnTo>
                  <a:pt x="12" y="72"/>
                </a:lnTo>
                <a:lnTo>
                  <a:pt x="24" y="108"/>
                </a:lnTo>
                <a:lnTo>
                  <a:pt x="30" y="144"/>
                </a:lnTo>
                <a:lnTo>
                  <a:pt x="36" y="180"/>
                </a:lnTo>
                <a:lnTo>
                  <a:pt x="42" y="216"/>
                </a:lnTo>
                <a:lnTo>
                  <a:pt x="48" y="246"/>
                </a:lnTo>
                <a:lnTo>
                  <a:pt x="54" y="282"/>
                </a:lnTo>
                <a:lnTo>
                  <a:pt x="60" y="318"/>
                </a:lnTo>
                <a:lnTo>
                  <a:pt x="72" y="348"/>
                </a:lnTo>
                <a:lnTo>
                  <a:pt x="78" y="384"/>
                </a:lnTo>
                <a:lnTo>
                  <a:pt x="84" y="414"/>
                </a:lnTo>
                <a:lnTo>
                  <a:pt x="90" y="450"/>
                </a:lnTo>
                <a:lnTo>
                  <a:pt x="96" y="480"/>
                </a:lnTo>
                <a:lnTo>
                  <a:pt x="102" y="510"/>
                </a:lnTo>
                <a:lnTo>
                  <a:pt x="108" y="546"/>
                </a:lnTo>
                <a:lnTo>
                  <a:pt x="120" y="576"/>
                </a:lnTo>
                <a:lnTo>
                  <a:pt x="126" y="606"/>
                </a:lnTo>
                <a:lnTo>
                  <a:pt x="132" y="636"/>
                </a:lnTo>
                <a:lnTo>
                  <a:pt x="138" y="666"/>
                </a:lnTo>
                <a:lnTo>
                  <a:pt x="144" y="696"/>
                </a:lnTo>
                <a:lnTo>
                  <a:pt x="150" y="726"/>
                </a:lnTo>
                <a:lnTo>
                  <a:pt x="156" y="756"/>
                </a:lnTo>
                <a:lnTo>
                  <a:pt x="168" y="786"/>
                </a:lnTo>
                <a:lnTo>
                  <a:pt x="174" y="816"/>
                </a:lnTo>
                <a:lnTo>
                  <a:pt x="180" y="840"/>
                </a:lnTo>
                <a:lnTo>
                  <a:pt x="186" y="870"/>
                </a:lnTo>
                <a:lnTo>
                  <a:pt x="192" y="900"/>
                </a:lnTo>
                <a:lnTo>
                  <a:pt x="198" y="924"/>
                </a:lnTo>
                <a:lnTo>
                  <a:pt x="204" y="954"/>
                </a:lnTo>
                <a:lnTo>
                  <a:pt x="216" y="978"/>
                </a:lnTo>
                <a:lnTo>
                  <a:pt x="222" y="1002"/>
                </a:lnTo>
                <a:lnTo>
                  <a:pt x="228" y="1032"/>
                </a:lnTo>
                <a:lnTo>
                  <a:pt x="234" y="1056"/>
                </a:lnTo>
                <a:lnTo>
                  <a:pt x="240" y="1080"/>
                </a:lnTo>
                <a:lnTo>
                  <a:pt x="246" y="1104"/>
                </a:lnTo>
                <a:lnTo>
                  <a:pt x="252" y="1134"/>
                </a:lnTo>
                <a:lnTo>
                  <a:pt x="264" y="1158"/>
                </a:lnTo>
                <a:lnTo>
                  <a:pt x="270" y="1182"/>
                </a:lnTo>
                <a:lnTo>
                  <a:pt x="276" y="1206"/>
                </a:lnTo>
                <a:lnTo>
                  <a:pt x="282" y="1230"/>
                </a:lnTo>
                <a:lnTo>
                  <a:pt x="288" y="1248"/>
                </a:lnTo>
                <a:lnTo>
                  <a:pt x="294" y="1272"/>
                </a:lnTo>
                <a:lnTo>
                  <a:pt x="300" y="1296"/>
                </a:lnTo>
                <a:lnTo>
                  <a:pt x="312" y="1320"/>
                </a:lnTo>
                <a:lnTo>
                  <a:pt x="318" y="1338"/>
                </a:lnTo>
                <a:lnTo>
                  <a:pt x="324" y="1362"/>
                </a:lnTo>
                <a:lnTo>
                  <a:pt x="330" y="1380"/>
                </a:lnTo>
                <a:lnTo>
                  <a:pt x="336" y="1404"/>
                </a:lnTo>
                <a:lnTo>
                  <a:pt x="342" y="1422"/>
                </a:lnTo>
                <a:lnTo>
                  <a:pt x="348" y="1446"/>
                </a:lnTo>
                <a:lnTo>
                  <a:pt x="360" y="1464"/>
                </a:lnTo>
                <a:lnTo>
                  <a:pt x="366" y="1482"/>
                </a:lnTo>
                <a:lnTo>
                  <a:pt x="372" y="1500"/>
                </a:lnTo>
                <a:lnTo>
                  <a:pt x="378" y="1524"/>
                </a:lnTo>
                <a:lnTo>
                  <a:pt x="384" y="1542"/>
                </a:lnTo>
                <a:lnTo>
                  <a:pt x="390" y="1560"/>
                </a:lnTo>
                <a:lnTo>
                  <a:pt x="396" y="1578"/>
                </a:lnTo>
                <a:lnTo>
                  <a:pt x="408" y="1596"/>
                </a:lnTo>
                <a:lnTo>
                  <a:pt x="414" y="1614"/>
                </a:lnTo>
                <a:lnTo>
                  <a:pt x="420" y="1626"/>
                </a:lnTo>
                <a:lnTo>
                  <a:pt x="426" y="1644"/>
                </a:lnTo>
                <a:lnTo>
                  <a:pt x="432" y="1662"/>
                </a:lnTo>
                <a:lnTo>
                  <a:pt x="438" y="1680"/>
                </a:lnTo>
                <a:lnTo>
                  <a:pt x="444" y="1692"/>
                </a:lnTo>
                <a:lnTo>
                  <a:pt x="456" y="1710"/>
                </a:lnTo>
                <a:lnTo>
                  <a:pt x="462" y="1722"/>
                </a:lnTo>
                <a:lnTo>
                  <a:pt x="468" y="1740"/>
                </a:lnTo>
                <a:lnTo>
                  <a:pt x="474" y="1752"/>
                </a:lnTo>
                <a:lnTo>
                  <a:pt x="480" y="1764"/>
                </a:lnTo>
                <a:lnTo>
                  <a:pt x="486" y="1782"/>
                </a:lnTo>
                <a:lnTo>
                  <a:pt x="492" y="1794"/>
                </a:lnTo>
                <a:lnTo>
                  <a:pt x="504" y="1806"/>
                </a:lnTo>
                <a:lnTo>
                  <a:pt x="510" y="1818"/>
                </a:lnTo>
                <a:lnTo>
                  <a:pt x="516" y="1830"/>
                </a:lnTo>
                <a:lnTo>
                  <a:pt x="522" y="1842"/>
                </a:lnTo>
                <a:lnTo>
                  <a:pt x="528" y="1854"/>
                </a:lnTo>
                <a:lnTo>
                  <a:pt x="534" y="1866"/>
                </a:lnTo>
                <a:lnTo>
                  <a:pt x="540" y="1878"/>
                </a:lnTo>
                <a:lnTo>
                  <a:pt x="552" y="1890"/>
                </a:lnTo>
                <a:lnTo>
                  <a:pt x="558" y="1902"/>
                </a:lnTo>
                <a:lnTo>
                  <a:pt x="564" y="1908"/>
                </a:lnTo>
                <a:lnTo>
                  <a:pt x="570" y="1920"/>
                </a:lnTo>
                <a:lnTo>
                  <a:pt x="576" y="1932"/>
                </a:lnTo>
                <a:lnTo>
                  <a:pt x="582" y="1938"/>
                </a:lnTo>
                <a:lnTo>
                  <a:pt x="588" y="1950"/>
                </a:lnTo>
                <a:lnTo>
                  <a:pt x="600" y="1956"/>
                </a:lnTo>
                <a:lnTo>
                  <a:pt x="606" y="1962"/>
                </a:lnTo>
                <a:lnTo>
                  <a:pt x="612" y="1974"/>
                </a:lnTo>
                <a:lnTo>
                  <a:pt x="618" y="1980"/>
                </a:lnTo>
                <a:lnTo>
                  <a:pt x="624" y="1986"/>
                </a:lnTo>
                <a:lnTo>
                  <a:pt x="630" y="1992"/>
                </a:lnTo>
                <a:lnTo>
                  <a:pt x="636" y="1998"/>
                </a:lnTo>
                <a:lnTo>
                  <a:pt x="648" y="2004"/>
                </a:lnTo>
                <a:lnTo>
                  <a:pt x="654" y="2010"/>
                </a:lnTo>
                <a:lnTo>
                  <a:pt x="660" y="2016"/>
                </a:lnTo>
                <a:lnTo>
                  <a:pt x="666" y="2022"/>
                </a:lnTo>
                <a:lnTo>
                  <a:pt x="672" y="2028"/>
                </a:lnTo>
                <a:lnTo>
                  <a:pt x="678" y="2034"/>
                </a:lnTo>
                <a:lnTo>
                  <a:pt x="684" y="2040"/>
                </a:lnTo>
                <a:lnTo>
                  <a:pt x="690" y="2040"/>
                </a:lnTo>
                <a:lnTo>
                  <a:pt x="702" y="2046"/>
                </a:lnTo>
                <a:lnTo>
                  <a:pt x="708" y="2046"/>
                </a:lnTo>
                <a:lnTo>
                  <a:pt x="714" y="2052"/>
                </a:lnTo>
                <a:lnTo>
                  <a:pt x="720" y="2052"/>
                </a:lnTo>
                <a:lnTo>
                  <a:pt x="726" y="2058"/>
                </a:lnTo>
                <a:lnTo>
                  <a:pt x="732" y="2058"/>
                </a:lnTo>
                <a:lnTo>
                  <a:pt x="738" y="2058"/>
                </a:lnTo>
                <a:lnTo>
                  <a:pt x="750" y="2064"/>
                </a:lnTo>
                <a:lnTo>
                  <a:pt x="756" y="2064"/>
                </a:lnTo>
                <a:lnTo>
                  <a:pt x="762" y="2064"/>
                </a:lnTo>
                <a:lnTo>
                  <a:pt x="768" y="2064"/>
                </a:lnTo>
                <a:lnTo>
                  <a:pt x="774" y="2064"/>
                </a:lnTo>
                <a:lnTo>
                  <a:pt x="781" y="2064"/>
                </a:lnTo>
                <a:lnTo>
                  <a:pt x="787" y="2064"/>
                </a:lnTo>
                <a:lnTo>
                  <a:pt x="799" y="2064"/>
                </a:lnTo>
                <a:lnTo>
                  <a:pt x="805" y="2064"/>
                </a:lnTo>
                <a:lnTo>
                  <a:pt x="811" y="2058"/>
                </a:lnTo>
                <a:lnTo>
                  <a:pt x="817" y="2058"/>
                </a:lnTo>
                <a:lnTo>
                  <a:pt x="823" y="2058"/>
                </a:lnTo>
                <a:lnTo>
                  <a:pt x="829" y="2052"/>
                </a:lnTo>
                <a:lnTo>
                  <a:pt x="835" y="2052"/>
                </a:lnTo>
                <a:lnTo>
                  <a:pt x="847" y="2046"/>
                </a:lnTo>
                <a:lnTo>
                  <a:pt x="853" y="2046"/>
                </a:lnTo>
                <a:lnTo>
                  <a:pt x="859" y="2040"/>
                </a:lnTo>
                <a:lnTo>
                  <a:pt x="865" y="2034"/>
                </a:lnTo>
                <a:lnTo>
                  <a:pt x="871" y="2034"/>
                </a:lnTo>
                <a:lnTo>
                  <a:pt x="877" y="2028"/>
                </a:lnTo>
                <a:lnTo>
                  <a:pt x="883" y="2022"/>
                </a:lnTo>
                <a:lnTo>
                  <a:pt x="895" y="2016"/>
                </a:lnTo>
                <a:lnTo>
                  <a:pt x="901" y="2010"/>
                </a:lnTo>
                <a:lnTo>
                  <a:pt x="907" y="2004"/>
                </a:lnTo>
                <a:lnTo>
                  <a:pt x="913" y="1998"/>
                </a:lnTo>
                <a:lnTo>
                  <a:pt x="919" y="1992"/>
                </a:lnTo>
                <a:lnTo>
                  <a:pt x="925" y="1986"/>
                </a:lnTo>
                <a:lnTo>
                  <a:pt x="931" y="1974"/>
                </a:lnTo>
                <a:lnTo>
                  <a:pt x="943" y="1968"/>
                </a:lnTo>
                <a:lnTo>
                  <a:pt x="949" y="1962"/>
                </a:lnTo>
                <a:lnTo>
                  <a:pt x="955" y="1950"/>
                </a:lnTo>
                <a:lnTo>
                  <a:pt x="961" y="1944"/>
                </a:lnTo>
                <a:lnTo>
                  <a:pt x="967" y="1938"/>
                </a:lnTo>
                <a:lnTo>
                  <a:pt x="973" y="1926"/>
                </a:lnTo>
                <a:lnTo>
                  <a:pt x="979" y="1914"/>
                </a:lnTo>
                <a:lnTo>
                  <a:pt x="991" y="1908"/>
                </a:lnTo>
                <a:lnTo>
                  <a:pt x="997" y="1896"/>
                </a:lnTo>
                <a:lnTo>
                  <a:pt x="1003" y="1884"/>
                </a:lnTo>
                <a:lnTo>
                  <a:pt x="1009" y="1872"/>
                </a:lnTo>
                <a:lnTo>
                  <a:pt x="1015" y="1866"/>
                </a:lnTo>
                <a:lnTo>
                  <a:pt x="1021" y="1854"/>
                </a:lnTo>
                <a:lnTo>
                  <a:pt x="1027" y="1842"/>
                </a:lnTo>
                <a:lnTo>
                  <a:pt x="1039" y="1830"/>
                </a:lnTo>
                <a:lnTo>
                  <a:pt x="1045" y="1818"/>
                </a:lnTo>
                <a:lnTo>
                  <a:pt x="1051" y="1800"/>
                </a:lnTo>
                <a:lnTo>
                  <a:pt x="1057" y="1788"/>
                </a:lnTo>
                <a:lnTo>
                  <a:pt x="1063" y="1776"/>
                </a:lnTo>
                <a:lnTo>
                  <a:pt x="1069" y="1764"/>
                </a:lnTo>
                <a:lnTo>
                  <a:pt x="1075" y="1746"/>
                </a:lnTo>
                <a:lnTo>
                  <a:pt x="1087" y="1734"/>
                </a:lnTo>
                <a:lnTo>
                  <a:pt x="1093" y="1716"/>
                </a:lnTo>
                <a:lnTo>
                  <a:pt x="1099" y="1704"/>
                </a:lnTo>
                <a:lnTo>
                  <a:pt x="1105" y="1686"/>
                </a:lnTo>
                <a:lnTo>
                  <a:pt x="1111" y="1674"/>
                </a:lnTo>
                <a:lnTo>
                  <a:pt x="1117" y="1656"/>
                </a:lnTo>
                <a:lnTo>
                  <a:pt x="1123" y="1638"/>
                </a:lnTo>
                <a:lnTo>
                  <a:pt x="1135" y="1620"/>
                </a:lnTo>
                <a:lnTo>
                  <a:pt x="1141" y="1608"/>
                </a:lnTo>
                <a:lnTo>
                  <a:pt x="1147" y="1590"/>
                </a:lnTo>
                <a:lnTo>
                  <a:pt x="1153" y="1572"/>
                </a:lnTo>
                <a:lnTo>
                  <a:pt x="1159" y="1554"/>
                </a:lnTo>
                <a:lnTo>
                  <a:pt x="1165" y="1536"/>
                </a:lnTo>
                <a:lnTo>
                  <a:pt x="1171" y="1518"/>
                </a:lnTo>
                <a:lnTo>
                  <a:pt x="1183" y="1494"/>
                </a:lnTo>
                <a:lnTo>
                  <a:pt x="1189" y="1476"/>
                </a:lnTo>
                <a:lnTo>
                  <a:pt x="1195" y="1458"/>
                </a:lnTo>
                <a:lnTo>
                  <a:pt x="1201" y="1440"/>
                </a:lnTo>
                <a:lnTo>
                  <a:pt x="1207" y="1416"/>
                </a:lnTo>
                <a:lnTo>
                  <a:pt x="1213" y="1398"/>
                </a:lnTo>
                <a:lnTo>
                  <a:pt x="1219" y="1374"/>
                </a:lnTo>
                <a:lnTo>
                  <a:pt x="1231" y="1356"/>
                </a:lnTo>
                <a:lnTo>
                  <a:pt x="1237" y="1332"/>
                </a:lnTo>
                <a:lnTo>
                  <a:pt x="1243" y="1308"/>
                </a:lnTo>
                <a:lnTo>
                  <a:pt x="1249" y="1290"/>
                </a:lnTo>
                <a:lnTo>
                  <a:pt x="1255" y="1266"/>
                </a:lnTo>
                <a:lnTo>
                  <a:pt x="1261" y="1242"/>
                </a:lnTo>
                <a:lnTo>
                  <a:pt x="1267" y="1218"/>
                </a:lnTo>
                <a:lnTo>
                  <a:pt x="1279" y="1194"/>
                </a:lnTo>
                <a:lnTo>
                  <a:pt x="1285" y="1170"/>
                </a:lnTo>
                <a:lnTo>
                  <a:pt x="1291" y="1146"/>
                </a:lnTo>
                <a:lnTo>
                  <a:pt x="1297" y="1122"/>
                </a:lnTo>
                <a:lnTo>
                  <a:pt x="1303" y="1098"/>
                </a:lnTo>
                <a:lnTo>
                  <a:pt x="1309" y="1074"/>
                </a:lnTo>
                <a:lnTo>
                  <a:pt x="1315" y="1050"/>
                </a:lnTo>
                <a:lnTo>
                  <a:pt x="1327" y="1020"/>
                </a:lnTo>
                <a:lnTo>
                  <a:pt x="1333" y="996"/>
                </a:lnTo>
                <a:lnTo>
                  <a:pt x="1339" y="966"/>
                </a:lnTo>
                <a:lnTo>
                  <a:pt x="1345" y="942"/>
                </a:lnTo>
                <a:lnTo>
                  <a:pt x="1351" y="912"/>
                </a:lnTo>
                <a:lnTo>
                  <a:pt x="1357" y="888"/>
                </a:lnTo>
                <a:lnTo>
                  <a:pt x="1363" y="858"/>
                </a:lnTo>
                <a:lnTo>
                  <a:pt x="1375" y="834"/>
                </a:lnTo>
                <a:lnTo>
                  <a:pt x="1381" y="804"/>
                </a:lnTo>
                <a:lnTo>
                  <a:pt x="1387" y="774"/>
                </a:lnTo>
                <a:lnTo>
                  <a:pt x="1393" y="744"/>
                </a:lnTo>
                <a:lnTo>
                  <a:pt x="1399" y="714"/>
                </a:lnTo>
                <a:lnTo>
                  <a:pt x="1405" y="684"/>
                </a:lnTo>
                <a:lnTo>
                  <a:pt x="1411" y="654"/>
                </a:lnTo>
                <a:lnTo>
                  <a:pt x="1423" y="624"/>
                </a:lnTo>
                <a:lnTo>
                  <a:pt x="1429" y="594"/>
                </a:lnTo>
                <a:lnTo>
                  <a:pt x="1435" y="564"/>
                </a:lnTo>
                <a:lnTo>
                  <a:pt x="1441" y="534"/>
                </a:lnTo>
                <a:lnTo>
                  <a:pt x="1447" y="504"/>
                </a:lnTo>
                <a:lnTo>
                  <a:pt x="1453" y="468"/>
                </a:lnTo>
                <a:lnTo>
                  <a:pt x="1459" y="438"/>
                </a:lnTo>
                <a:lnTo>
                  <a:pt x="1471" y="402"/>
                </a:lnTo>
                <a:lnTo>
                  <a:pt x="1477" y="372"/>
                </a:lnTo>
                <a:lnTo>
                  <a:pt x="1483" y="336"/>
                </a:lnTo>
                <a:lnTo>
                  <a:pt x="1489" y="306"/>
                </a:lnTo>
                <a:lnTo>
                  <a:pt x="1495" y="270"/>
                </a:lnTo>
                <a:lnTo>
                  <a:pt x="1501" y="234"/>
                </a:lnTo>
                <a:lnTo>
                  <a:pt x="1507" y="204"/>
                </a:lnTo>
                <a:lnTo>
                  <a:pt x="1519" y="168"/>
                </a:lnTo>
                <a:lnTo>
                  <a:pt x="1525" y="132"/>
                </a:lnTo>
                <a:lnTo>
                  <a:pt x="1531" y="96"/>
                </a:lnTo>
                <a:lnTo>
                  <a:pt x="1537" y="60"/>
                </a:lnTo>
                <a:lnTo>
                  <a:pt x="1543" y="24"/>
                </a:ln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50"/>
          <p:cNvGrpSpPr/>
          <p:nvPr/>
        </p:nvGrpSpPr>
        <p:grpSpPr>
          <a:xfrm>
            <a:off x="4267080" y="3276720"/>
            <a:ext cx="1600200" cy="3581280"/>
            <a:chOff x="4267080" y="3276720"/>
            <a:chExt cx="1600200" cy="3581280"/>
          </a:xfrm>
        </p:grpSpPr>
        <p:sp>
          <p:nvSpPr>
            <p:cNvPr id="360" name="Freeform 48"/>
            <p:cNvSpPr/>
            <p:nvPr/>
          </p:nvSpPr>
          <p:spPr>
            <a:xfrm>
              <a:off x="4267080" y="3276720"/>
              <a:ext cx="1600200" cy="25909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9"/>
            <p:cNvSpPr/>
            <p:nvPr/>
          </p:nvSpPr>
          <p:spPr>
            <a:xfrm>
              <a:off x="5105160" y="3581640"/>
              <a:ext cx="0" cy="3276360"/>
            </a:xfrm>
            <a:prstGeom prst="line">
              <a:avLst/>
            </a:prstGeom>
            <a:ln w="28440">
              <a:solidFill>
                <a:srgbClr val="0066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51"/>
          <p:cNvGrpSpPr/>
          <p:nvPr/>
        </p:nvGrpSpPr>
        <p:grpSpPr>
          <a:xfrm>
            <a:off x="4267080" y="2971800"/>
            <a:ext cx="1600200" cy="3581280"/>
            <a:chOff x="4267080" y="2971800"/>
            <a:chExt cx="1600200" cy="3581280"/>
          </a:xfrm>
        </p:grpSpPr>
        <p:sp>
          <p:nvSpPr>
            <p:cNvPr id="363" name="Freeform 52"/>
            <p:cNvSpPr/>
            <p:nvPr/>
          </p:nvSpPr>
          <p:spPr>
            <a:xfrm>
              <a:off x="4267080" y="2971800"/>
              <a:ext cx="1600200" cy="25909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e9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3"/>
            <p:cNvSpPr/>
            <p:nvPr/>
          </p:nvSpPr>
          <p:spPr>
            <a:xfrm>
              <a:off x="5105160" y="3276720"/>
              <a:ext cx="0" cy="3276360"/>
            </a:xfrm>
            <a:prstGeom prst="line">
              <a:avLst/>
            </a:prstGeom>
            <a:ln w="28440">
              <a:solidFill>
                <a:srgbClr val="e9011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63"/>
          <p:cNvGrpSpPr/>
          <p:nvPr/>
        </p:nvGrpSpPr>
        <p:grpSpPr>
          <a:xfrm>
            <a:off x="9448920" y="1905120"/>
            <a:ext cx="1600200" cy="3581280"/>
            <a:chOff x="9448920" y="1905120"/>
            <a:chExt cx="1600200" cy="3581280"/>
          </a:xfrm>
        </p:grpSpPr>
        <p:sp>
          <p:nvSpPr>
            <p:cNvPr id="366" name="Freeform 64"/>
            <p:cNvSpPr/>
            <p:nvPr/>
          </p:nvSpPr>
          <p:spPr>
            <a:xfrm>
              <a:off x="9448920" y="1905120"/>
              <a:ext cx="1600200" cy="2590920"/>
            </a:xfrm>
            <a:custGeom>
              <a:avLst/>
              <a:gdLst/>
              <a:ahLst/>
              <a:rect l="l" t="t" r="r" b="b"/>
              <a:pathLst>
                <a:path w="1543" h="2064">
                  <a:moveTo>
                    <a:pt x="0" y="0"/>
                  </a:moveTo>
                  <a:lnTo>
                    <a:pt x="6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0" y="144"/>
                  </a:lnTo>
                  <a:lnTo>
                    <a:pt x="36" y="180"/>
                  </a:lnTo>
                  <a:lnTo>
                    <a:pt x="42" y="216"/>
                  </a:lnTo>
                  <a:lnTo>
                    <a:pt x="48" y="246"/>
                  </a:lnTo>
                  <a:lnTo>
                    <a:pt x="54" y="282"/>
                  </a:lnTo>
                  <a:lnTo>
                    <a:pt x="60" y="318"/>
                  </a:lnTo>
                  <a:lnTo>
                    <a:pt x="72" y="348"/>
                  </a:lnTo>
                  <a:lnTo>
                    <a:pt x="78" y="384"/>
                  </a:lnTo>
                  <a:lnTo>
                    <a:pt x="84" y="414"/>
                  </a:lnTo>
                  <a:lnTo>
                    <a:pt x="90" y="450"/>
                  </a:lnTo>
                  <a:lnTo>
                    <a:pt x="96" y="480"/>
                  </a:lnTo>
                  <a:lnTo>
                    <a:pt x="102" y="510"/>
                  </a:lnTo>
                  <a:lnTo>
                    <a:pt x="108" y="546"/>
                  </a:lnTo>
                  <a:lnTo>
                    <a:pt x="120" y="576"/>
                  </a:lnTo>
                  <a:lnTo>
                    <a:pt x="126" y="606"/>
                  </a:lnTo>
                  <a:lnTo>
                    <a:pt x="132" y="636"/>
                  </a:lnTo>
                  <a:lnTo>
                    <a:pt x="138" y="666"/>
                  </a:lnTo>
                  <a:lnTo>
                    <a:pt x="144" y="696"/>
                  </a:lnTo>
                  <a:lnTo>
                    <a:pt x="150" y="726"/>
                  </a:lnTo>
                  <a:lnTo>
                    <a:pt x="156" y="756"/>
                  </a:lnTo>
                  <a:lnTo>
                    <a:pt x="168" y="786"/>
                  </a:lnTo>
                  <a:lnTo>
                    <a:pt x="174" y="816"/>
                  </a:lnTo>
                  <a:lnTo>
                    <a:pt x="180" y="840"/>
                  </a:lnTo>
                  <a:lnTo>
                    <a:pt x="186" y="870"/>
                  </a:lnTo>
                  <a:lnTo>
                    <a:pt x="192" y="900"/>
                  </a:lnTo>
                  <a:lnTo>
                    <a:pt x="198" y="924"/>
                  </a:lnTo>
                  <a:lnTo>
                    <a:pt x="204" y="954"/>
                  </a:lnTo>
                  <a:lnTo>
                    <a:pt x="216" y="978"/>
                  </a:lnTo>
                  <a:lnTo>
                    <a:pt x="222" y="1002"/>
                  </a:lnTo>
                  <a:lnTo>
                    <a:pt x="228" y="1032"/>
                  </a:lnTo>
                  <a:lnTo>
                    <a:pt x="234" y="1056"/>
                  </a:lnTo>
                  <a:lnTo>
                    <a:pt x="240" y="1080"/>
                  </a:lnTo>
                  <a:lnTo>
                    <a:pt x="246" y="1104"/>
                  </a:lnTo>
                  <a:lnTo>
                    <a:pt x="252" y="1134"/>
                  </a:lnTo>
                  <a:lnTo>
                    <a:pt x="264" y="1158"/>
                  </a:lnTo>
                  <a:lnTo>
                    <a:pt x="270" y="1182"/>
                  </a:lnTo>
                  <a:lnTo>
                    <a:pt x="276" y="1206"/>
                  </a:lnTo>
                  <a:lnTo>
                    <a:pt x="282" y="1230"/>
                  </a:lnTo>
                  <a:lnTo>
                    <a:pt x="288" y="1248"/>
                  </a:lnTo>
                  <a:lnTo>
                    <a:pt x="294" y="1272"/>
                  </a:lnTo>
                  <a:lnTo>
                    <a:pt x="300" y="1296"/>
                  </a:lnTo>
                  <a:lnTo>
                    <a:pt x="312" y="1320"/>
                  </a:lnTo>
                  <a:lnTo>
                    <a:pt x="318" y="1338"/>
                  </a:lnTo>
                  <a:lnTo>
                    <a:pt x="324" y="1362"/>
                  </a:lnTo>
                  <a:lnTo>
                    <a:pt x="330" y="1380"/>
                  </a:lnTo>
                  <a:lnTo>
                    <a:pt x="336" y="1404"/>
                  </a:lnTo>
                  <a:lnTo>
                    <a:pt x="342" y="1422"/>
                  </a:lnTo>
                  <a:lnTo>
                    <a:pt x="348" y="1446"/>
                  </a:lnTo>
                  <a:lnTo>
                    <a:pt x="360" y="1464"/>
                  </a:lnTo>
                  <a:lnTo>
                    <a:pt x="366" y="1482"/>
                  </a:lnTo>
                  <a:lnTo>
                    <a:pt x="372" y="1500"/>
                  </a:lnTo>
                  <a:lnTo>
                    <a:pt x="378" y="1524"/>
                  </a:lnTo>
                  <a:lnTo>
                    <a:pt x="384" y="1542"/>
                  </a:lnTo>
                  <a:lnTo>
                    <a:pt x="390" y="1560"/>
                  </a:lnTo>
                  <a:lnTo>
                    <a:pt x="396" y="1578"/>
                  </a:lnTo>
                  <a:lnTo>
                    <a:pt x="408" y="1596"/>
                  </a:lnTo>
                  <a:lnTo>
                    <a:pt x="414" y="1614"/>
                  </a:lnTo>
                  <a:lnTo>
                    <a:pt x="420" y="1626"/>
                  </a:lnTo>
                  <a:lnTo>
                    <a:pt x="426" y="1644"/>
                  </a:lnTo>
                  <a:lnTo>
                    <a:pt x="432" y="1662"/>
                  </a:lnTo>
                  <a:lnTo>
                    <a:pt x="438" y="1680"/>
                  </a:lnTo>
                  <a:lnTo>
                    <a:pt x="444" y="1692"/>
                  </a:lnTo>
                  <a:lnTo>
                    <a:pt x="456" y="1710"/>
                  </a:lnTo>
                  <a:lnTo>
                    <a:pt x="462" y="1722"/>
                  </a:lnTo>
                  <a:lnTo>
                    <a:pt x="468" y="1740"/>
                  </a:lnTo>
                  <a:lnTo>
                    <a:pt x="474" y="1752"/>
                  </a:lnTo>
                  <a:lnTo>
                    <a:pt x="480" y="1764"/>
                  </a:lnTo>
                  <a:lnTo>
                    <a:pt x="486" y="1782"/>
                  </a:lnTo>
                  <a:lnTo>
                    <a:pt x="492" y="1794"/>
                  </a:lnTo>
                  <a:lnTo>
                    <a:pt x="504" y="1806"/>
                  </a:lnTo>
                  <a:lnTo>
                    <a:pt x="510" y="1818"/>
                  </a:lnTo>
                  <a:lnTo>
                    <a:pt x="516" y="1830"/>
                  </a:lnTo>
                  <a:lnTo>
                    <a:pt x="522" y="1842"/>
                  </a:lnTo>
                  <a:lnTo>
                    <a:pt x="528" y="1854"/>
                  </a:lnTo>
                  <a:lnTo>
                    <a:pt x="534" y="1866"/>
                  </a:lnTo>
                  <a:lnTo>
                    <a:pt x="540" y="1878"/>
                  </a:lnTo>
                  <a:lnTo>
                    <a:pt x="552" y="1890"/>
                  </a:lnTo>
                  <a:lnTo>
                    <a:pt x="558" y="1902"/>
                  </a:lnTo>
                  <a:lnTo>
                    <a:pt x="564" y="1908"/>
                  </a:lnTo>
                  <a:lnTo>
                    <a:pt x="570" y="1920"/>
                  </a:lnTo>
                  <a:lnTo>
                    <a:pt x="576" y="1932"/>
                  </a:lnTo>
                  <a:lnTo>
                    <a:pt x="582" y="1938"/>
                  </a:lnTo>
                  <a:lnTo>
                    <a:pt x="588" y="1950"/>
                  </a:lnTo>
                  <a:lnTo>
                    <a:pt x="600" y="1956"/>
                  </a:lnTo>
                  <a:lnTo>
                    <a:pt x="606" y="1962"/>
                  </a:lnTo>
                  <a:lnTo>
                    <a:pt x="612" y="1974"/>
                  </a:lnTo>
                  <a:lnTo>
                    <a:pt x="618" y="1980"/>
                  </a:lnTo>
                  <a:lnTo>
                    <a:pt x="624" y="1986"/>
                  </a:lnTo>
                  <a:lnTo>
                    <a:pt x="630" y="1992"/>
                  </a:lnTo>
                  <a:lnTo>
                    <a:pt x="636" y="1998"/>
                  </a:lnTo>
                  <a:lnTo>
                    <a:pt x="648" y="2004"/>
                  </a:lnTo>
                  <a:lnTo>
                    <a:pt x="654" y="2010"/>
                  </a:lnTo>
                  <a:lnTo>
                    <a:pt x="660" y="2016"/>
                  </a:lnTo>
                  <a:lnTo>
                    <a:pt x="666" y="2022"/>
                  </a:lnTo>
                  <a:lnTo>
                    <a:pt x="672" y="2028"/>
                  </a:lnTo>
                  <a:lnTo>
                    <a:pt x="678" y="2034"/>
                  </a:lnTo>
                  <a:lnTo>
                    <a:pt x="684" y="2040"/>
                  </a:lnTo>
                  <a:lnTo>
                    <a:pt x="690" y="2040"/>
                  </a:lnTo>
                  <a:lnTo>
                    <a:pt x="702" y="2046"/>
                  </a:lnTo>
                  <a:lnTo>
                    <a:pt x="708" y="2046"/>
                  </a:lnTo>
                  <a:lnTo>
                    <a:pt x="714" y="2052"/>
                  </a:lnTo>
                  <a:lnTo>
                    <a:pt x="720" y="2052"/>
                  </a:lnTo>
                  <a:lnTo>
                    <a:pt x="726" y="2058"/>
                  </a:lnTo>
                  <a:lnTo>
                    <a:pt x="732" y="2058"/>
                  </a:lnTo>
                  <a:lnTo>
                    <a:pt x="738" y="2058"/>
                  </a:lnTo>
                  <a:lnTo>
                    <a:pt x="750" y="2064"/>
                  </a:lnTo>
                  <a:lnTo>
                    <a:pt x="756" y="2064"/>
                  </a:lnTo>
                  <a:lnTo>
                    <a:pt x="762" y="2064"/>
                  </a:lnTo>
                  <a:lnTo>
                    <a:pt x="768" y="2064"/>
                  </a:lnTo>
                  <a:lnTo>
                    <a:pt x="774" y="2064"/>
                  </a:lnTo>
                  <a:lnTo>
                    <a:pt x="781" y="2064"/>
                  </a:lnTo>
                  <a:lnTo>
                    <a:pt x="787" y="2064"/>
                  </a:lnTo>
                  <a:lnTo>
                    <a:pt x="799" y="2064"/>
                  </a:lnTo>
                  <a:lnTo>
                    <a:pt x="805" y="2064"/>
                  </a:lnTo>
                  <a:lnTo>
                    <a:pt x="811" y="2058"/>
                  </a:lnTo>
                  <a:lnTo>
                    <a:pt x="817" y="2058"/>
                  </a:lnTo>
                  <a:lnTo>
                    <a:pt x="823" y="2058"/>
                  </a:lnTo>
                  <a:lnTo>
                    <a:pt x="829" y="2052"/>
                  </a:lnTo>
                  <a:lnTo>
                    <a:pt x="835" y="2052"/>
                  </a:lnTo>
                  <a:lnTo>
                    <a:pt x="847" y="2046"/>
                  </a:lnTo>
                  <a:lnTo>
                    <a:pt x="853" y="2046"/>
                  </a:lnTo>
                  <a:lnTo>
                    <a:pt x="859" y="2040"/>
                  </a:lnTo>
                  <a:lnTo>
                    <a:pt x="865" y="2034"/>
                  </a:lnTo>
                  <a:lnTo>
                    <a:pt x="871" y="2034"/>
                  </a:lnTo>
                  <a:lnTo>
                    <a:pt x="877" y="2028"/>
                  </a:lnTo>
                  <a:lnTo>
                    <a:pt x="883" y="2022"/>
                  </a:lnTo>
                  <a:lnTo>
                    <a:pt x="895" y="2016"/>
                  </a:lnTo>
                  <a:lnTo>
                    <a:pt x="901" y="2010"/>
                  </a:lnTo>
                  <a:lnTo>
                    <a:pt x="907" y="2004"/>
                  </a:lnTo>
                  <a:lnTo>
                    <a:pt x="913" y="1998"/>
                  </a:lnTo>
                  <a:lnTo>
                    <a:pt x="919" y="1992"/>
                  </a:lnTo>
                  <a:lnTo>
                    <a:pt x="925" y="1986"/>
                  </a:lnTo>
                  <a:lnTo>
                    <a:pt x="931" y="1974"/>
                  </a:lnTo>
                  <a:lnTo>
                    <a:pt x="943" y="1968"/>
                  </a:lnTo>
                  <a:lnTo>
                    <a:pt x="949" y="1962"/>
                  </a:lnTo>
                  <a:lnTo>
                    <a:pt x="955" y="1950"/>
                  </a:lnTo>
                  <a:lnTo>
                    <a:pt x="961" y="1944"/>
                  </a:lnTo>
                  <a:lnTo>
                    <a:pt x="967" y="1938"/>
                  </a:lnTo>
                  <a:lnTo>
                    <a:pt x="973" y="1926"/>
                  </a:lnTo>
                  <a:lnTo>
                    <a:pt x="979" y="1914"/>
                  </a:lnTo>
                  <a:lnTo>
                    <a:pt x="991" y="1908"/>
                  </a:lnTo>
                  <a:lnTo>
                    <a:pt x="997" y="1896"/>
                  </a:lnTo>
                  <a:lnTo>
                    <a:pt x="1003" y="1884"/>
                  </a:lnTo>
                  <a:lnTo>
                    <a:pt x="1009" y="1872"/>
                  </a:lnTo>
                  <a:lnTo>
                    <a:pt x="1015" y="1866"/>
                  </a:lnTo>
                  <a:lnTo>
                    <a:pt x="1021" y="1854"/>
                  </a:lnTo>
                  <a:lnTo>
                    <a:pt x="1027" y="1842"/>
                  </a:lnTo>
                  <a:lnTo>
                    <a:pt x="1039" y="1830"/>
                  </a:lnTo>
                  <a:lnTo>
                    <a:pt x="1045" y="1818"/>
                  </a:lnTo>
                  <a:lnTo>
                    <a:pt x="1051" y="1800"/>
                  </a:lnTo>
                  <a:lnTo>
                    <a:pt x="1057" y="1788"/>
                  </a:lnTo>
                  <a:lnTo>
                    <a:pt x="1063" y="1776"/>
                  </a:lnTo>
                  <a:lnTo>
                    <a:pt x="1069" y="1764"/>
                  </a:lnTo>
                  <a:lnTo>
                    <a:pt x="1075" y="1746"/>
                  </a:lnTo>
                  <a:lnTo>
                    <a:pt x="1087" y="1734"/>
                  </a:lnTo>
                  <a:lnTo>
                    <a:pt x="1093" y="1716"/>
                  </a:lnTo>
                  <a:lnTo>
                    <a:pt x="1099" y="1704"/>
                  </a:lnTo>
                  <a:lnTo>
                    <a:pt x="1105" y="1686"/>
                  </a:lnTo>
                  <a:lnTo>
                    <a:pt x="1111" y="1674"/>
                  </a:lnTo>
                  <a:lnTo>
                    <a:pt x="1117" y="1656"/>
                  </a:lnTo>
                  <a:lnTo>
                    <a:pt x="1123" y="1638"/>
                  </a:lnTo>
                  <a:lnTo>
                    <a:pt x="1135" y="1620"/>
                  </a:lnTo>
                  <a:lnTo>
                    <a:pt x="1141" y="1608"/>
                  </a:lnTo>
                  <a:lnTo>
                    <a:pt x="1147" y="1590"/>
                  </a:lnTo>
                  <a:lnTo>
                    <a:pt x="1153" y="1572"/>
                  </a:lnTo>
                  <a:lnTo>
                    <a:pt x="1159" y="1554"/>
                  </a:lnTo>
                  <a:lnTo>
                    <a:pt x="1165" y="1536"/>
                  </a:lnTo>
                  <a:lnTo>
                    <a:pt x="1171" y="1518"/>
                  </a:lnTo>
                  <a:lnTo>
                    <a:pt x="1183" y="1494"/>
                  </a:lnTo>
                  <a:lnTo>
                    <a:pt x="1189" y="1476"/>
                  </a:lnTo>
                  <a:lnTo>
                    <a:pt x="1195" y="1458"/>
                  </a:lnTo>
                  <a:lnTo>
                    <a:pt x="1201" y="1440"/>
                  </a:lnTo>
                  <a:lnTo>
                    <a:pt x="1207" y="1416"/>
                  </a:lnTo>
                  <a:lnTo>
                    <a:pt x="1213" y="1398"/>
                  </a:lnTo>
                  <a:lnTo>
                    <a:pt x="1219" y="1374"/>
                  </a:lnTo>
                  <a:lnTo>
                    <a:pt x="1231" y="1356"/>
                  </a:lnTo>
                  <a:lnTo>
                    <a:pt x="1237" y="1332"/>
                  </a:lnTo>
                  <a:lnTo>
                    <a:pt x="1243" y="1308"/>
                  </a:lnTo>
                  <a:lnTo>
                    <a:pt x="1249" y="1290"/>
                  </a:lnTo>
                  <a:lnTo>
                    <a:pt x="1255" y="1266"/>
                  </a:lnTo>
                  <a:lnTo>
                    <a:pt x="1261" y="1242"/>
                  </a:lnTo>
                  <a:lnTo>
                    <a:pt x="1267" y="1218"/>
                  </a:lnTo>
                  <a:lnTo>
                    <a:pt x="1279" y="1194"/>
                  </a:lnTo>
                  <a:lnTo>
                    <a:pt x="1285" y="1170"/>
                  </a:lnTo>
                  <a:lnTo>
                    <a:pt x="1291" y="1146"/>
                  </a:lnTo>
                  <a:lnTo>
                    <a:pt x="1297" y="1122"/>
                  </a:lnTo>
                  <a:lnTo>
                    <a:pt x="1303" y="1098"/>
                  </a:lnTo>
                  <a:lnTo>
                    <a:pt x="1309" y="1074"/>
                  </a:lnTo>
                  <a:lnTo>
                    <a:pt x="1315" y="1050"/>
                  </a:lnTo>
                  <a:lnTo>
                    <a:pt x="1327" y="1020"/>
                  </a:lnTo>
                  <a:lnTo>
                    <a:pt x="1333" y="996"/>
                  </a:lnTo>
                  <a:lnTo>
                    <a:pt x="1339" y="966"/>
                  </a:lnTo>
                  <a:lnTo>
                    <a:pt x="1345" y="942"/>
                  </a:lnTo>
                  <a:lnTo>
                    <a:pt x="1351" y="912"/>
                  </a:lnTo>
                  <a:lnTo>
                    <a:pt x="1357" y="888"/>
                  </a:lnTo>
                  <a:lnTo>
                    <a:pt x="1363" y="858"/>
                  </a:lnTo>
                  <a:lnTo>
                    <a:pt x="1375" y="834"/>
                  </a:lnTo>
                  <a:lnTo>
                    <a:pt x="1381" y="804"/>
                  </a:lnTo>
                  <a:lnTo>
                    <a:pt x="1387" y="774"/>
                  </a:lnTo>
                  <a:lnTo>
                    <a:pt x="1393" y="744"/>
                  </a:lnTo>
                  <a:lnTo>
                    <a:pt x="1399" y="714"/>
                  </a:lnTo>
                  <a:lnTo>
                    <a:pt x="1405" y="684"/>
                  </a:lnTo>
                  <a:lnTo>
                    <a:pt x="1411" y="654"/>
                  </a:lnTo>
                  <a:lnTo>
                    <a:pt x="1423" y="624"/>
                  </a:lnTo>
                  <a:lnTo>
                    <a:pt x="1429" y="594"/>
                  </a:lnTo>
                  <a:lnTo>
                    <a:pt x="1435" y="564"/>
                  </a:lnTo>
                  <a:lnTo>
                    <a:pt x="1441" y="534"/>
                  </a:lnTo>
                  <a:lnTo>
                    <a:pt x="1447" y="504"/>
                  </a:lnTo>
                  <a:lnTo>
                    <a:pt x="1453" y="468"/>
                  </a:lnTo>
                  <a:lnTo>
                    <a:pt x="1459" y="438"/>
                  </a:lnTo>
                  <a:lnTo>
                    <a:pt x="1471" y="402"/>
                  </a:lnTo>
                  <a:lnTo>
                    <a:pt x="1477" y="372"/>
                  </a:lnTo>
                  <a:lnTo>
                    <a:pt x="1483" y="336"/>
                  </a:lnTo>
                  <a:lnTo>
                    <a:pt x="1489" y="306"/>
                  </a:lnTo>
                  <a:lnTo>
                    <a:pt x="1495" y="270"/>
                  </a:lnTo>
                  <a:lnTo>
                    <a:pt x="1501" y="234"/>
                  </a:lnTo>
                  <a:lnTo>
                    <a:pt x="1507" y="204"/>
                  </a:lnTo>
                  <a:lnTo>
                    <a:pt x="1519" y="168"/>
                  </a:lnTo>
                  <a:lnTo>
                    <a:pt x="1525" y="132"/>
                  </a:lnTo>
                  <a:lnTo>
                    <a:pt x="1531" y="96"/>
                  </a:lnTo>
                  <a:lnTo>
                    <a:pt x="1537" y="60"/>
                  </a:lnTo>
                  <a:lnTo>
                    <a:pt x="1543" y="24"/>
                  </a:lnTo>
                </a:path>
              </a:pathLst>
            </a:cu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5"/>
            <p:cNvSpPr/>
            <p:nvPr/>
          </p:nvSpPr>
          <p:spPr>
            <a:xfrm>
              <a:off x="10287000" y="2210040"/>
              <a:ext cx="0" cy="3276360"/>
            </a:xfrm>
            <a:prstGeom prst="line">
              <a:avLst/>
            </a:prstGeom>
            <a:ln w="28440">
              <a:solidFill>
                <a:srgbClr val="9900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Text Box 66"/>
          <p:cNvSpPr/>
          <p:nvPr/>
        </p:nvSpPr>
        <p:spPr>
          <a:xfrm>
            <a:off x="2751480" y="3962520"/>
            <a:ext cx="1119600" cy="581400"/>
          </a:xfrm>
          <a:prstGeom prst="rect">
            <a:avLst/>
          </a:prstGeom>
          <a:solidFill>
            <a:srgbClr val="daf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=2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7"/>
          <p:cNvSpPr/>
          <p:nvPr/>
        </p:nvSpPr>
        <p:spPr>
          <a:xfrm>
            <a:off x="5562720" y="5105520"/>
            <a:ext cx="1821960" cy="581400"/>
          </a:xfrm>
          <a:prstGeom prst="rect">
            <a:avLst/>
          </a:prstGeom>
          <a:solidFill>
            <a:srgbClr val="daf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</a:rPr>
              <a:t>y=2(</a:t>
            </a:r>
            <a:r>
              <a:rPr b="1" i="1" lang="en-US" sz="3200" spc="-1" strike="noStrike">
                <a:solidFill>
                  <a:srgbClr val="0066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</a:rPr>
              <a:t>–1)</a:t>
            </a:r>
            <a:r>
              <a:rPr b="1" lang="en-US" sz="3200" spc="-1" strike="noStrike" baseline="30000">
                <a:solidFill>
                  <a:srgbClr val="006633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68"/>
          <p:cNvSpPr/>
          <p:nvPr/>
        </p:nvSpPr>
        <p:spPr>
          <a:xfrm>
            <a:off x="5644800" y="3581280"/>
            <a:ext cx="2257920" cy="581400"/>
          </a:xfrm>
          <a:prstGeom prst="rect">
            <a:avLst/>
          </a:prstGeom>
          <a:solidFill>
            <a:srgbClr val="ff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112"/>
                </a:solidFill>
                <a:latin typeface="Times New Roman"/>
              </a:rPr>
              <a:t>y=2(</a:t>
            </a:r>
            <a:r>
              <a:rPr b="1" i="1" lang="en-US" sz="3200" spc="-1" strike="noStrike">
                <a:solidFill>
                  <a:srgbClr val="e90112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90112"/>
                </a:solidFill>
                <a:latin typeface="Times New Roman"/>
              </a:rPr>
              <a:t>–1)</a:t>
            </a:r>
            <a:r>
              <a:rPr b="1" lang="en-US" sz="3200" spc="-1" strike="noStrike" baseline="30000">
                <a:solidFill>
                  <a:srgbClr val="e90112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e90112"/>
                </a:solidFill>
                <a:latin typeface="Times New Roman"/>
              </a:rPr>
              <a:t>+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80880" y="609480"/>
          <a:ext cx="8381880" cy="2438280"/>
        </p:xfrm>
        <a:graphic>
          <a:graphicData uri="http://schemas.openxmlformats.org/drawingml/2006/table">
            <a:tbl>
              <a:tblPr/>
              <a:tblGrid>
                <a:gridCol w="1708200"/>
                <a:gridCol w="620640"/>
                <a:gridCol w="776160"/>
                <a:gridCol w="852480"/>
                <a:gridCol w="1087560"/>
                <a:gridCol w="1008000"/>
                <a:gridCol w="1009800"/>
                <a:gridCol w="1319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-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=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=2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1)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=2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1)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cc"/>
                          </a:solidFill>
                          <a:latin typeface="Tahoma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93"/>
          <p:cNvSpPr/>
          <p:nvPr/>
        </p:nvSpPr>
        <p:spPr>
          <a:xfrm>
            <a:off x="1657800" y="1440"/>
            <a:ext cx="59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同一坐标系内画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=2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=2(x-1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1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的图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2" descr=""/>
          <p:cNvPicPr/>
          <p:nvPr/>
        </p:nvPicPr>
        <p:blipFill>
          <a:blip r:embed="rId1"/>
          <a:stretch/>
        </p:blipFill>
        <p:spPr>
          <a:xfrm>
            <a:off x="3371760" y="264960"/>
            <a:ext cx="2036880" cy="736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" descr=""/>
          <p:cNvPicPr/>
          <p:nvPr/>
        </p:nvPicPr>
        <p:blipFill>
          <a:blip r:embed="rId2"/>
          <a:stretch/>
        </p:blipFill>
        <p:spPr>
          <a:xfrm>
            <a:off x="982800" y="2252520"/>
            <a:ext cx="2279520" cy="72864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4" descr=""/>
          <p:cNvPicPr/>
          <p:nvPr/>
        </p:nvPicPr>
        <p:blipFill>
          <a:blip r:embed="rId3"/>
          <a:stretch/>
        </p:blipFill>
        <p:spPr>
          <a:xfrm>
            <a:off x="2933640" y="4044960"/>
            <a:ext cx="2989440" cy="71136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5" descr=""/>
          <p:cNvPicPr/>
          <p:nvPr/>
        </p:nvPicPr>
        <p:blipFill>
          <a:blip r:embed="rId4"/>
          <a:stretch/>
        </p:blipFill>
        <p:spPr>
          <a:xfrm>
            <a:off x="5597640" y="2190600"/>
            <a:ext cx="2628720" cy="76356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6"/>
          <p:cNvSpPr/>
          <p:nvPr/>
        </p:nvSpPr>
        <p:spPr>
          <a:xfrm rot="2176800">
            <a:off x="2653920" y="1012320"/>
            <a:ext cx="206280" cy="1224000"/>
          </a:xfrm>
          <a:prstGeom prst="downArrow">
            <a:avLst>
              <a:gd name="adj1" fmla="val 50000"/>
              <a:gd name="adj2" fmla="val 148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7"/>
          <p:cNvSpPr/>
          <p:nvPr/>
        </p:nvSpPr>
        <p:spPr>
          <a:xfrm rot="19105200">
            <a:off x="2738520" y="3038040"/>
            <a:ext cx="242640" cy="1094040"/>
          </a:xfrm>
          <a:prstGeom prst="downArrow">
            <a:avLst>
              <a:gd name="adj1" fmla="val 50000"/>
              <a:gd name="adj2" fmla="val 11268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8"/>
          <p:cNvSpPr/>
          <p:nvPr/>
        </p:nvSpPr>
        <p:spPr>
          <a:xfrm rot="1758000">
            <a:off x="6012000" y="2924280"/>
            <a:ext cx="276120" cy="1144440"/>
          </a:xfrm>
          <a:prstGeom prst="downArrow">
            <a:avLst>
              <a:gd name="adj1" fmla="val 50000"/>
              <a:gd name="adj2" fmla="val 10357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9"/>
          <p:cNvSpPr/>
          <p:nvPr/>
        </p:nvSpPr>
        <p:spPr>
          <a:xfrm rot="19206000">
            <a:off x="5851440" y="1002960"/>
            <a:ext cx="228600" cy="1212840"/>
          </a:xfrm>
          <a:prstGeom prst="downArrow">
            <a:avLst>
              <a:gd name="adj1" fmla="val 50000"/>
              <a:gd name="adj2" fmla="val 13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468360" y="530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Object 11" descr=""/>
          <p:cNvPicPr/>
          <p:nvPr/>
        </p:nvPicPr>
        <p:blipFill>
          <a:blip r:embed="rId5"/>
          <a:stretch/>
        </p:blipFill>
        <p:spPr>
          <a:xfrm>
            <a:off x="401760" y="4964040"/>
            <a:ext cx="1930320" cy="459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3"/>
          <p:cNvSpPr/>
          <p:nvPr/>
        </p:nvSpPr>
        <p:spPr>
          <a:xfrm>
            <a:off x="2484360" y="494172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的图像可以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5"/>
          <p:cNvSpPr/>
          <p:nvPr/>
        </p:nvSpPr>
        <p:spPr>
          <a:xfrm rot="2233800">
            <a:off x="2275920" y="7866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上平移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6"/>
          <p:cNvSpPr/>
          <p:nvPr/>
        </p:nvSpPr>
        <p:spPr>
          <a:xfrm rot="2750400">
            <a:off x="2768040" y="299304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右平移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9"/>
          <p:cNvSpPr/>
          <p:nvPr/>
        </p:nvSpPr>
        <p:spPr>
          <a:xfrm rot="2898000">
            <a:off x="5750640" y="95328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右平移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0"/>
          <p:cNvSpPr/>
          <p:nvPr/>
        </p:nvSpPr>
        <p:spPr>
          <a:xfrm rot="18095400">
            <a:off x="4686840" y="2883600"/>
            <a:ext cx="135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向上平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宋体"/>
              </a:rPr>
              <a:t>一个单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Object 17" descr=""/>
          <p:cNvPicPr/>
          <p:nvPr/>
        </p:nvPicPr>
        <p:blipFill>
          <a:blip r:embed="rId6"/>
          <a:stretch/>
        </p:blipFill>
        <p:spPr>
          <a:xfrm>
            <a:off x="4584600" y="5019840"/>
            <a:ext cx="1487520" cy="4172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2"/>
          <p:cNvSpPr/>
          <p:nvPr/>
        </p:nvSpPr>
        <p:spPr>
          <a:xfrm>
            <a:off x="6156360" y="494172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先向上平移一个单位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3"/>
          <p:cNvSpPr/>
          <p:nvPr/>
        </p:nvSpPr>
        <p:spPr>
          <a:xfrm>
            <a:off x="133200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再向右平移一个单位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或者先向右平移一个单位再向上平移一个单位而得到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2:16:34Z</dcterms:created>
  <dc:creator>老虎</dc:creator>
  <dc:description/>
  <dc:language>en-US</dc:language>
  <cp:lastModifiedBy>Administrator</cp:lastModifiedBy>
  <dcterms:modified xsi:type="dcterms:W3CDTF">2018-09-19T07:41:49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Version">
    <vt:r8>1</vt:r8>
  </property>
</Properties>
</file>